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41.wmf" ContentType="image/x-wmf"/>
  <Override PartName="/ppt/media/image39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9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B71-7074-4A59-A51F-E7BDBB1EE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C7CB-BD71-455E-87DB-1F7B10ED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020-3E29-4088-B6FD-8811FA534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A25-2FB2-434D-8A83-9719E637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810F-0219-427C-842C-1BAA7B6C5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3182-35B2-4620-BB7A-DE121E089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2FFD-B58D-4522-8C15-EA8B6E115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FF27-1DE0-4170-88C9-B9A910D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6DAC-2F3B-41F1-B52F-D8AC09CB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F417-FD95-48D9-8FF8-B6FB083D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776B-DCC2-4665-BBE2-FD8990B0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46B4-9E5F-4D9F-9247-2E228EC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B27D8-1739-4C0E-9A9C-8F8D01A1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94F5-FF4E-40C7-84B0-B28A632BE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D883-D659-43E0-AD7B-0DFB89C0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E79-8828-453E-8D33-48AE5BD3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0EAD-4347-4C81-A377-19C1EEAF8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E081-93E7-41E8-BAE8-539A90F3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0B62-4C35-40B4-B287-623A8FA4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16A0-7B67-4928-ABA9-9584A038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E2D5-95AA-4E7A-A6F6-5A169234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C432-E542-4802-8536-CA55C9772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8257-B6FE-47B8-AFF5-26B95ED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D5F7-DD3D-47D2-8061-8B089578C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5F48-A5EC-4BE7-816D-855E7448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91A9-3D56-446A-9726-62B90FAB6E88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六章  插值与拟合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68360" y="1557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实验目的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042920" y="2205000"/>
            <a:ext cx="727236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了解插值的基本思想，掌握拉格朗日插值和牛顿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值多项式的求法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042920" y="32846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会使用几种数据拟合的方法，知道最小二乘拟合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理；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971640" y="436572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掌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插值和拟合的语句和方法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68360" y="491652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实验原理和方法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11"/>
          <p:cNvPicPr/>
          <p:nvPr/>
        </p:nvPicPr>
        <p:blipFill>
          <a:blip r:embed="rId1"/>
          <a:stretch/>
        </p:blipFill>
        <p:spPr>
          <a:xfrm>
            <a:off x="395280" y="1198440"/>
            <a:ext cx="8353440" cy="4462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24000" y="7650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曲线拟合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2" name="Picture 3" descr="12"/>
          <p:cNvPicPr/>
          <p:nvPr/>
        </p:nvPicPr>
        <p:blipFill>
          <a:blip r:embed="rId1"/>
          <a:stretch/>
        </p:blipFill>
        <p:spPr>
          <a:xfrm>
            <a:off x="468360" y="1481040"/>
            <a:ext cx="8280360" cy="4000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7650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曲线拟合的最小二乘法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4" name="Picture 3" descr="13"/>
          <p:cNvPicPr/>
          <p:nvPr/>
        </p:nvPicPr>
        <p:blipFill>
          <a:blip r:embed="rId1"/>
          <a:stretch/>
        </p:blipFill>
        <p:spPr>
          <a:xfrm>
            <a:off x="539640" y="1268280"/>
            <a:ext cx="799308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95280" y="6922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、内容与步骤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11280" y="126828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项式插值的数值实验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Picture 4" descr="14"/>
          <p:cNvPicPr/>
          <p:nvPr/>
        </p:nvPicPr>
        <p:blipFill>
          <a:blip r:embed="rId1"/>
          <a:stretch/>
        </p:blipFill>
        <p:spPr>
          <a:xfrm>
            <a:off x="684360" y="1844640"/>
            <a:ext cx="7705440" cy="2595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15"/>
          <p:cNvPicPr/>
          <p:nvPr/>
        </p:nvPicPr>
        <p:blipFill>
          <a:blip r:embed="rId2"/>
          <a:stretch/>
        </p:blipFill>
        <p:spPr>
          <a:xfrm>
            <a:off x="611280" y="4635360"/>
            <a:ext cx="7848360" cy="160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95280" y="620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１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692360" y="620640"/>
            <a:ext cx="69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                  如下表，求二次牛顿插值多项式，并由此计算            的值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2411280" y="692280"/>
                <a:ext cx="14400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h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3419640" y="1052640"/>
                <a:ext cx="79200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2268360" y="1557360"/>
                <a:ext cx="3366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8"/>
              <p:cNvSpPr txBox="1"/>
              <p:nvPr/>
            </p:nvSpPr>
            <p:spPr>
              <a:xfrm>
                <a:off x="2124000" y="2133720"/>
                <a:ext cx="72072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Rectangle 10"/>
          <p:cNvSpPr/>
          <p:nvPr/>
        </p:nvSpPr>
        <p:spPr>
          <a:xfrm>
            <a:off x="2536920" y="2911320"/>
            <a:ext cx="407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2536920" y="2911320"/>
            <a:ext cx="4071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870200" y="1557360"/>
          <a:ext cx="4070160" cy="1036440"/>
        </p:xfrm>
        <a:graphic>
          <a:graphicData uri="http://schemas.openxmlformats.org/drawingml/2006/table">
            <a:tbl>
              <a:tblPr/>
              <a:tblGrid>
                <a:gridCol w="1017360"/>
                <a:gridCol w="1017720"/>
                <a:gridCol w="1017720"/>
                <a:gridCol w="1017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．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781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67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881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63"/>
          <p:cNvSpPr/>
          <p:nvPr/>
        </p:nvSpPr>
        <p:spPr>
          <a:xfrm>
            <a:off x="755640" y="2852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如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5"/>
              <p:cNvSpPr txBox="1"/>
              <p:nvPr/>
            </p:nvSpPr>
            <p:spPr>
              <a:xfrm>
                <a:off x="1403280" y="3357720"/>
                <a:ext cx="5040360" cy="18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programme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781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967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11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32" name="Picture 67" descr="16"/>
          <p:cNvPicPr/>
          <p:nvPr/>
        </p:nvPicPr>
        <p:blipFill>
          <a:blip r:embed="rId1"/>
          <a:stretch/>
        </p:blipFill>
        <p:spPr>
          <a:xfrm>
            <a:off x="1328760" y="5157720"/>
            <a:ext cx="7491240" cy="1117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24000" y="6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69236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根据下函数表，求四次牛顿插值多项式，并用其计算             和             的近似值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4"/>
              <p:cNvSpPr txBox="1"/>
              <p:nvPr/>
            </p:nvSpPr>
            <p:spPr>
              <a:xfrm>
                <a:off x="2411280" y="1125360"/>
                <a:ext cx="10810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52720" y="1125360"/>
                <a:ext cx="107964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2195640" y="1628640"/>
                <a:ext cx="392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1908000" y="2276640"/>
                <a:ext cx="86364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Rectangle 10"/>
          <p:cNvSpPr/>
          <p:nvPr/>
        </p:nvSpPr>
        <p:spPr>
          <a:xfrm>
            <a:off x="2514600" y="2911320"/>
            <a:ext cx="411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2514600" y="2911320"/>
            <a:ext cx="4116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35280" y="1628640"/>
          <a:ext cx="6234120" cy="1238400"/>
        </p:xfrm>
        <a:graphic>
          <a:graphicData uri="http://schemas.openxmlformats.org/drawingml/2006/table">
            <a:tbl>
              <a:tblPr/>
              <a:tblGrid>
                <a:gridCol w="1057320"/>
                <a:gridCol w="1054080"/>
                <a:gridCol w="1056960"/>
                <a:gridCol w="1054440"/>
                <a:gridCol w="1052280"/>
                <a:gridCol w="95904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1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34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0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28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2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145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645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527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303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3406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Text Box 90"/>
          <p:cNvSpPr/>
          <p:nvPr/>
        </p:nvSpPr>
        <p:spPr>
          <a:xfrm>
            <a:off x="611280" y="29718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如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Rectangle 92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Rectangle 94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93"/>
              <p:cNvSpPr txBox="1"/>
              <p:nvPr/>
            </p:nvSpPr>
            <p:spPr>
              <a:xfrm>
                <a:off x="1187280" y="3500280"/>
                <a:ext cx="7705800" cy="223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/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programme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1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4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02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8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1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145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6459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271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303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066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2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3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17"/>
          <p:cNvPicPr/>
          <p:nvPr/>
        </p:nvPicPr>
        <p:blipFill>
          <a:blip r:embed="rId1"/>
          <a:stretch/>
        </p:blipFill>
        <p:spPr>
          <a:xfrm>
            <a:off x="395280" y="1025640"/>
            <a:ext cx="8497800" cy="1682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179280" y="32590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76360" y="324972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内，每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测量一次温度，测得的温度依次为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试估计每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的温度值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395280" y="46274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如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3"/>
              <p:cNvSpPr txBox="1"/>
              <p:nvPr/>
            </p:nvSpPr>
            <p:spPr>
              <a:xfrm>
                <a:off x="577800" y="476280"/>
                <a:ext cx="8205840" cy="458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ogramme</m:t>
                              </m:r>
                              <m:r>
                                <m:t xml:space="preserve">3</m:t>
                              </m:r>
                            </m:e>
                          </m:mr>
                        </m:m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our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:12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emps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5,8,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: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:12;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  <m:r>
                          <m:rPr>
                            <m:lit/>
                            <m:nor/>
                          </m:rPr>
                          <m:t xml:space="preserve">erp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mps</m:t>
                        </m:r>
                        <m:r>
                          <m:t xml:space="preserve">,</m:t>
                        </m:r>
                        <m:r>
                          <m:t xml:space="preserve">h</m:t>
                        </m:r>
                        <m:r>
                          <m:rPr>
                            <m:lit/>
                            <m:nor/>
                          </m:rPr>
                          <m:t xml:space="preserve">,'</m:t>
                        </m:r>
                        <m:r>
                          <m:rPr>
                            <m:lit/>
                            <m:nor/>
                          </m:rPr>
                          <m:t xml:space="preserve">spline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lo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mps</m:t>
                        </m:r>
                        <m:r>
                          <m:rPr>
                            <m:lit/>
                            <m:nor/>
                          </m:rPr>
                          <m:t xml:space="preserve">,'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emps</m:t>
                        </m:r>
                        <m:r>
                          <m:rPr>
                            <m:lit/>
                            <m:nor/>
                          </m:rPr>
                          <m:t xml:space="preserve">,'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:'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xlabel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Hour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label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egrees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Celsius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5" name="Text Box 5"/>
          <p:cNvSpPr/>
          <p:nvPr/>
        </p:nvSpPr>
        <p:spPr>
          <a:xfrm>
            <a:off x="468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为文件名保存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后，在命令窗口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即可得到结果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179280" y="76500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332000" y="765000"/>
            <a:ext cx="77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飞机下轮廓线上数据如下，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改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时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826920" y="1413000"/>
          <a:ext cx="7345440" cy="863640"/>
        </p:xfrm>
        <a:graphic>
          <a:graphicData uri="http://schemas.openxmlformats.org/drawingml/2006/table">
            <a:tbl>
              <a:tblPr/>
              <a:tblGrid>
                <a:gridCol w="490680"/>
                <a:gridCol w="492120"/>
                <a:gridCol w="706320"/>
                <a:gridCol w="708120"/>
                <a:gridCol w="706320"/>
                <a:gridCol w="706680"/>
                <a:gridCol w="708120"/>
                <a:gridCol w="706320"/>
                <a:gridCol w="706320"/>
                <a:gridCol w="708120"/>
                <a:gridCol w="706320"/>
              </a:tblGrid>
              <a:tr h="4014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Freeform 141"/>
          <p:cNvSpPr/>
          <p:nvPr/>
        </p:nvSpPr>
        <p:spPr>
          <a:xfrm>
            <a:off x="1042920" y="2637000"/>
            <a:ext cx="4824360" cy="1081080"/>
          </a:xfrm>
          <a:prstGeom prst="pie">
            <a:avLst/>
          </a:prstGeom>
          <a:solidFill>
            <a:srgbClr val="e1b7b7"/>
          </a:solidFill>
          <a:ln w="93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Text Box 142"/>
          <p:cNvSpPr/>
          <p:nvPr/>
        </p:nvSpPr>
        <p:spPr>
          <a:xfrm>
            <a:off x="6300720" y="2997360"/>
            <a:ext cx="223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imes New Roman"/>
                <a:ea typeface="隶书"/>
              </a:rPr>
              <a:t>机翼下轮廓线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71640" y="1125360"/>
            <a:ext cx="6337080" cy="42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 programme4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0=[0 3 5 7 9 11 12 13 14 15]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0=[0 1.2 1.7 2.0 2.1 2.0 1.8 1.2 1.0 1.6]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=0:0.1:15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1=interp1(x0,y0,x)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2=interp1(x0,y0,x,'spline')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plot(2,1,1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(x0,y0,'k+',x,y1,'r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('piecewise linear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bplot(2,1,2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(x0,y0,'k+',x,y2,'r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('spline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900000" y="5445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为文件名保存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后，在命令窗口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即可得到结果 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900000" y="62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如下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971640" y="122868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值方法是数值分析中很古老的一个分支，它有着悠久的历史。等距结点内插公式是有我国隋朝数学家刘焯首先提出的；而不等距结点内插公式是由唐朝数学家张遂提出的。这比西欧学者发表相应结果早一千多年。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71640" y="346068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值方法在数值分析的许多分支（如数值积分，数值微分，微分方程数值解，曲线曲面拟合，函数值近似计算等）均有应用。现以近似计算函数值为例来说明插值的方法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928800" y="714240"/>
            <a:ext cx="7215120" cy="5880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324000" y="6681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线性最小二乘拟合实验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66" name="Picture 3" descr="18"/>
          <p:cNvPicPr/>
          <p:nvPr/>
        </p:nvPicPr>
        <p:blipFill>
          <a:blip r:embed="rId1"/>
          <a:stretch/>
        </p:blipFill>
        <p:spPr>
          <a:xfrm>
            <a:off x="468360" y="1285920"/>
            <a:ext cx="8064360" cy="15685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19"/>
          <p:cNvPicPr/>
          <p:nvPr/>
        </p:nvPicPr>
        <p:blipFill>
          <a:blip r:embed="rId2"/>
          <a:stretch/>
        </p:blipFill>
        <p:spPr>
          <a:xfrm>
            <a:off x="1547640" y="2924280"/>
            <a:ext cx="4104000" cy="20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20"/>
          <p:cNvPicPr/>
          <p:nvPr/>
        </p:nvPicPr>
        <p:blipFill>
          <a:blip r:embed="rId3"/>
          <a:stretch/>
        </p:blipFill>
        <p:spPr>
          <a:xfrm>
            <a:off x="611280" y="5143680"/>
            <a:ext cx="8281800" cy="1022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1476360" y="4653000"/>
            <a:ext cx="4248000" cy="504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1476360" y="4005360"/>
            <a:ext cx="2735280" cy="431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1" name="Picture 2" descr="21"/>
          <p:cNvPicPr/>
          <p:nvPr/>
        </p:nvPicPr>
        <p:blipFill>
          <a:blip r:embed="rId1"/>
          <a:stretch/>
        </p:blipFill>
        <p:spPr>
          <a:xfrm>
            <a:off x="611280" y="620640"/>
            <a:ext cx="8208720" cy="10080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0"/>
              <p:cNvSpPr txBox="1"/>
              <p:nvPr/>
            </p:nvSpPr>
            <p:spPr>
              <a:xfrm>
                <a:off x="684360" y="1773360"/>
                <a:ext cx="26636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olyval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4" name="Picture 5" descr="22"/>
          <p:cNvPicPr/>
          <p:nvPr/>
        </p:nvPicPr>
        <p:blipFill>
          <a:blip r:embed="rId2"/>
          <a:stretch/>
        </p:blipFill>
        <p:spPr>
          <a:xfrm>
            <a:off x="684360" y="2565360"/>
            <a:ext cx="8064360" cy="1114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1476360" y="400536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经验来确定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476360" y="472428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将数据点作图，观察图形选取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3"/>
          <p:cNvGrpSpPr/>
          <p:nvPr/>
        </p:nvGrpSpPr>
        <p:grpSpPr>
          <a:xfrm>
            <a:off x="538200" y="1044720"/>
            <a:ext cx="8066160" cy="4184640"/>
            <a:chOff x="538200" y="1044720"/>
            <a:chExt cx="8066160" cy="4184640"/>
          </a:xfrm>
        </p:grpSpPr>
        <p:sp>
          <p:nvSpPr>
            <p:cNvPr id="178" name="AutoShape 4"/>
            <p:cNvSpPr/>
            <p:nvPr/>
          </p:nvSpPr>
          <p:spPr>
            <a:xfrm>
              <a:off x="538200" y="1044720"/>
              <a:ext cx="8066160" cy="418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179" name="Group 5"/>
            <p:cNvGrpSpPr/>
            <p:nvPr/>
          </p:nvGrpSpPr>
          <p:grpSpPr>
            <a:xfrm>
              <a:off x="538200" y="1418400"/>
              <a:ext cx="2016720" cy="1568520"/>
              <a:chOff x="538200" y="1418400"/>
              <a:chExt cx="2016720" cy="1568520"/>
            </a:xfrm>
          </p:grpSpPr>
          <p:sp>
            <p:nvSpPr>
              <p:cNvPr id="180" name="Line 6"/>
              <p:cNvSpPr/>
              <p:nvPr/>
            </p:nvSpPr>
            <p:spPr>
              <a:xfrm flipV="1">
                <a:off x="538200" y="1492560"/>
                <a:ext cx="0" cy="149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1" name="Line 7"/>
              <p:cNvSpPr/>
              <p:nvPr/>
            </p:nvSpPr>
            <p:spPr>
              <a:xfrm>
                <a:off x="538200" y="2986920"/>
                <a:ext cx="20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2" name="Text Box 8"/>
              <p:cNvSpPr/>
              <p:nvPr/>
            </p:nvSpPr>
            <p:spPr>
              <a:xfrm>
                <a:off x="538200" y="238932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3" name="Text Box 9"/>
              <p:cNvSpPr/>
              <p:nvPr/>
            </p:nvSpPr>
            <p:spPr>
              <a:xfrm>
                <a:off x="911520" y="223992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4" name="Text Box 10"/>
              <p:cNvSpPr/>
              <p:nvPr/>
            </p:nvSpPr>
            <p:spPr>
              <a:xfrm>
                <a:off x="1583640" y="171720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5" name="Text Box 11"/>
              <p:cNvSpPr/>
              <p:nvPr/>
            </p:nvSpPr>
            <p:spPr>
              <a:xfrm>
                <a:off x="1956960" y="1418400"/>
                <a:ext cx="3736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6" name="Text Box 12"/>
              <p:cNvSpPr/>
              <p:nvPr/>
            </p:nvSpPr>
            <p:spPr>
              <a:xfrm>
                <a:off x="1135440" y="171720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13"/>
            <p:cNvGrpSpPr/>
            <p:nvPr/>
          </p:nvGrpSpPr>
          <p:grpSpPr>
            <a:xfrm>
              <a:off x="3151800" y="1418400"/>
              <a:ext cx="2016720" cy="1568520"/>
              <a:chOff x="3151800" y="1418400"/>
              <a:chExt cx="2016720" cy="1568520"/>
            </a:xfrm>
          </p:grpSpPr>
          <p:sp>
            <p:nvSpPr>
              <p:cNvPr id="188" name="Line 14"/>
              <p:cNvSpPr/>
              <p:nvPr/>
            </p:nvSpPr>
            <p:spPr>
              <a:xfrm flipV="1">
                <a:off x="3151800" y="1492560"/>
                <a:ext cx="0" cy="149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89" name="Line 15"/>
              <p:cNvSpPr/>
              <p:nvPr/>
            </p:nvSpPr>
            <p:spPr>
              <a:xfrm>
                <a:off x="3151800" y="2986920"/>
                <a:ext cx="20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0" name="Text Box 16"/>
              <p:cNvSpPr/>
              <p:nvPr/>
            </p:nvSpPr>
            <p:spPr>
              <a:xfrm>
                <a:off x="3151800" y="2165400"/>
                <a:ext cx="37368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1" name="Text Box 17"/>
              <p:cNvSpPr/>
              <p:nvPr/>
            </p:nvSpPr>
            <p:spPr>
              <a:xfrm>
                <a:off x="3525480" y="238932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2" name="Text Box 18"/>
              <p:cNvSpPr/>
              <p:nvPr/>
            </p:nvSpPr>
            <p:spPr>
              <a:xfrm>
                <a:off x="4197600" y="186624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3" name="Text Box 19"/>
              <p:cNvSpPr/>
              <p:nvPr/>
            </p:nvSpPr>
            <p:spPr>
              <a:xfrm>
                <a:off x="4570920" y="141840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4" name="Text Box 20"/>
              <p:cNvSpPr/>
              <p:nvPr/>
            </p:nvSpPr>
            <p:spPr>
              <a:xfrm>
                <a:off x="3973320" y="2314440"/>
                <a:ext cx="37332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21"/>
            <p:cNvGrpSpPr/>
            <p:nvPr/>
          </p:nvGrpSpPr>
          <p:grpSpPr>
            <a:xfrm>
              <a:off x="5841000" y="1492920"/>
              <a:ext cx="2016360" cy="1494000"/>
              <a:chOff x="5841000" y="1492920"/>
              <a:chExt cx="2016360" cy="1494000"/>
            </a:xfrm>
          </p:grpSpPr>
          <p:sp>
            <p:nvSpPr>
              <p:cNvPr id="196" name="Line 22"/>
              <p:cNvSpPr/>
              <p:nvPr/>
            </p:nvSpPr>
            <p:spPr>
              <a:xfrm flipV="1">
                <a:off x="5841000" y="1492920"/>
                <a:ext cx="0" cy="14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7" name="Line 23"/>
              <p:cNvSpPr/>
              <p:nvPr/>
            </p:nvSpPr>
            <p:spPr>
              <a:xfrm>
                <a:off x="5841000" y="2986920"/>
                <a:ext cx="20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8" name="Text Box 24"/>
              <p:cNvSpPr/>
              <p:nvPr/>
            </p:nvSpPr>
            <p:spPr>
              <a:xfrm>
                <a:off x="5841000" y="238932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99" name="Text Box 25"/>
              <p:cNvSpPr/>
              <p:nvPr/>
            </p:nvSpPr>
            <p:spPr>
              <a:xfrm>
                <a:off x="6139800" y="209016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0" name="Text Box 26"/>
              <p:cNvSpPr/>
              <p:nvPr/>
            </p:nvSpPr>
            <p:spPr>
              <a:xfrm>
                <a:off x="6886440" y="164196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1" name="Text Box 27"/>
              <p:cNvSpPr/>
              <p:nvPr/>
            </p:nvSpPr>
            <p:spPr>
              <a:xfrm>
                <a:off x="7259760" y="186624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2" name="Text Box 28"/>
              <p:cNvSpPr/>
              <p:nvPr/>
            </p:nvSpPr>
            <p:spPr>
              <a:xfrm>
                <a:off x="6438600" y="164196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29"/>
            <p:cNvGrpSpPr/>
            <p:nvPr/>
          </p:nvGrpSpPr>
          <p:grpSpPr>
            <a:xfrm>
              <a:off x="3151800" y="3660120"/>
              <a:ext cx="2016720" cy="1569240"/>
              <a:chOff x="3151800" y="3660120"/>
              <a:chExt cx="2016720" cy="1569240"/>
            </a:xfrm>
          </p:grpSpPr>
          <p:sp>
            <p:nvSpPr>
              <p:cNvPr id="204" name="Line 30"/>
              <p:cNvSpPr/>
              <p:nvPr/>
            </p:nvSpPr>
            <p:spPr>
              <a:xfrm flipV="1">
                <a:off x="3151800" y="3734280"/>
                <a:ext cx="0" cy="149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5" name="Line 31"/>
              <p:cNvSpPr/>
              <p:nvPr/>
            </p:nvSpPr>
            <p:spPr>
              <a:xfrm>
                <a:off x="3151800" y="5229360"/>
                <a:ext cx="20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6" name="Text Box 32"/>
              <p:cNvSpPr/>
              <p:nvPr/>
            </p:nvSpPr>
            <p:spPr>
              <a:xfrm>
                <a:off x="3151800" y="478080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7" name="Text Box 33"/>
              <p:cNvSpPr/>
              <p:nvPr/>
            </p:nvSpPr>
            <p:spPr>
              <a:xfrm>
                <a:off x="3525120" y="463140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8" name="Text Box 34"/>
              <p:cNvSpPr/>
              <p:nvPr/>
            </p:nvSpPr>
            <p:spPr>
              <a:xfrm>
                <a:off x="4122360" y="3958920"/>
                <a:ext cx="37368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09" name="Text Box 35"/>
              <p:cNvSpPr/>
              <p:nvPr/>
            </p:nvSpPr>
            <p:spPr>
              <a:xfrm>
                <a:off x="4570560" y="3660120"/>
                <a:ext cx="37368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0" name="Text Box 36"/>
              <p:cNvSpPr/>
              <p:nvPr/>
            </p:nvSpPr>
            <p:spPr>
              <a:xfrm>
                <a:off x="3972960" y="455652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37"/>
            <p:cNvGrpSpPr/>
            <p:nvPr/>
          </p:nvGrpSpPr>
          <p:grpSpPr>
            <a:xfrm>
              <a:off x="5841000" y="3735000"/>
              <a:ext cx="2016360" cy="1494000"/>
              <a:chOff x="5841000" y="3735000"/>
              <a:chExt cx="2016360" cy="1494000"/>
            </a:xfrm>
          </p:grpSpPr>
          <p:sp>
            <p:nvSpPr>
              <p:cNvPr id="212" name="Line 38"/>
              <p:cNvSpPr/>
              <p:nvPr/>
            </p:nvSpPr>
            <p:spPr>
              <a:xfrm flipV="1">
                <a:off x="5841000" y="3735000"/>
                <a:ext cx="0" cy="14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3" name="Line 39"/>
              <p:cNvSpPr/>
              <p:nvPr/>
            </p:nvSpPr>
            <p:spPr>
              <a:xfrm>
                <a:off x="5841000" y="5229000"/>
                <a:ext cx="20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4" name="Text Box 40"/>
              <p:cNvSpPr/>
              <p:nvPr/>
            </p:nvSpPr>
            <p:spPr>
              <a:xfrm>
                <a:off x="5841000" y="373500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5" name="Text Box 41"/>
              <p:cNvSpPr/>
              <p:nvPr/>
            </p:nvSpPr>
            <p:spPr>
              <a:xfrm>
                <a:off x="6214320" y="395892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6" name="Text Box 42"/>
              <p:cNvSpPr/>
              <p:nvPr/>
            </p:nvSpPr>
            <p:spPr>
              <a:xfrm>
                <a:off x="6960960" y="470592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7" name="Text Box 43"/>
              <p:cNvSpPr/>
              <p:nvPr/>
            </p:nvSpPr>
            <p:spPr>
              <a:xfrm>
                <a:off x="7334640" y="4780440"/>
                <a:ext cx="3729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18" name="Text Box 44"/>
              <p:cNvSpPr/>
              <p:nvPr/>
            </p:nvSpPr>
            <p:spPr>
              <a:xfrm>
                <a:off x="6513120" y="448164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45"/>
            <p:cNvGrpSpPr/>
            <p:nvPr/>
          </p:nvGrpSpPr>
          <p:grpSpPr>
            <a:xfrm>
              <a:off x="538200" y="3735000"/>
              <a:ext cx="2016720" cy="1494000"/>
              <a:chOff x="538200" y="3735000"/>
              <a:chExt cx="2016720" cy="1494000"/>
            </a:xfrm>
          </p:grpSpPr>
          <p:sp>
            <p:nvSpPr>
              <p:cNvPr id="220" name="Line 46"/>
              <p:cNvSpPr/>
              <p:nvPr/>
            </p:nvSpPr>
            <p:spPr>
              <a:xfrm flipV="1">
                <a:off x="538200" y="3735000"/>
                <a:ext cx="0" cy="149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1" name="Line 47"/>
              <p:cNvSpPr/>
              <p:nvPr/>
            </p:nvSpPr>
            <p:spPr>
              <a:xfrm>
                <a:off x="538200" y="5229000"/>
                <a:ext cx="2016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2" name="Text Box 48"/>
              <p:cNvSpPr/>
              <p:nvPr/>
            </p:nvSpPr>
            <p:spPr>
              <a:xfrm>
                <a:off x="538200" y="388404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3" name="Text Box 49"/>
              <p:cNvSpPr/>
              <p:nvPr/>
            </p:nvSpPr>
            <p:spPr>
              <a:xfrm>
                <a:off x="836640" y="4257360"/>
                <a:ext cx="37368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4" name="Text Box 50"/>
              <p:cNvSpPr/>
              <p:nvPr/>
            </p:nvSpPr>
            <p:spPr>
              <a:xfrm>
                <a:off x="1583640" y="455652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5" name="Text Box 51"/>
              <p:cNvSpPr/>
              <p:nvPr/>
            </p:nvSpPr>
            <p:spPr>
              <a:xfrm>
                <a:off x="2031840" y="463140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6" name="Text Box 52"/>
              <p:cNvSpPr/>
              <p:nvPr/>
            </p:nvSpPr>
            <p:spPr>
              <a:xfrm>
                <a:off x="1210320" y="4407120"/>
                <a:ext cx="37332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</a:t>
                </a:r>
                <a:endParaRPr b="1" lang="en-US" sz="15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53"/>
            <p:cNvGrpSpPr/>
            <p:nvPr/>
          </p:nvGrpSpPr>
          <p:grpSpPr>
            <a:xfrm>
              <a:off x="687600" y="1044720"/>
              <a:ext cx="1568160" cy="1568520"/>
              <a:chOff x="687600" y="1044720"/>
              <a:chExt cx="1568160" cy="1568520"/>
            </a:xfrm>
          </p:grpSpPr>
          <p:sp>
            <p:nvSpPr>
              <p:cNvPr id="228" name="Line 54"/>
              <p:cNvSpPr/>
              <p:nvPr/>
            </p:nvSpPr>
            <p:spPr>
              <a:xfrm flipV="1">
                <a:off x="687600" y="1567440"/>
                <a:ext cx="1568160" cy="104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29" name="Text Box 55"/>
              <p:cNvSpPr/>
              <p:nvPr/>
            </p:nvSpPr>
            <p:spPr>
              <a:xfrm>
                <a:off x="986400" y="1044720"/>
                <a:ext cx="126900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56"/>
            <p:cNvGrpSpPr/>
            <p:nvPr/>
          </p:nvGrpSpPr>
          <p:grpSpPr>
            <a:xfrm>
              <a:off x="3227040" y="1119600"/>
              <a:ext cx="2091240" cy="1493640"/>
              <a:chOff x="3227040" y="1119600"/>
              <a:chExt cx="2091240" cy="1493640"/>
            </a:xfrm>
          </p:grpSpPr>
          <p:sp>
            <p:nvSpPr>
              <p:cNvPr id="231" name="Arc 57"/>
              <p:cNvSpPr/>
              <p:nvPr/>
            </p:nvSpPr>
            <p:spPr>
              <a:xfrm flipH="1" flipV="1">
                <a:off x="3300840" y="2314440"/>
                <a:ext cx="522360" cy="29880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2" name="Arc 58"/>
              <p:cNvSpPr/>
              <p:nvPr/>
            </p:nvSpPr>
            <p:spPr>
              <a:xfrm flipV="1">
                <a:off x="3824280" y="1342800"/>
                <a:ext cx="891360" cy="1269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3" name="Text Box 59"/>
              <p:cNvSpPr/>
              <p:nvPr/>
            </p:nvSpPr>
            <p:spPr>
              <a:xfrm>
                <a:off x="3227040" y="1119600"/>
                <a:ext cx="2091240" cy="44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60"/>
            <p:cNvGrpSpPr/>
            <p:nvPr/>
          </p:nvGrpSpPr>
          <p:grpSpPr>
            <a:xfrm>
              <a:off x="5915520" y="1193760"/>
              <a:ext cx="1941840" cy="1643400"/>
              <a:chOff x="5915520" y="1193760"/>
              <a:chExt cx="1941840" cy="1643400"/>
            </a:xfrm>
          </p:grpSpPr>
          <p:sp>
            <p:nvSpPr>
              <p:cNvPr id="235" name="Arc 61"/>
              <p:cNvSpPr/>
              <p:nvPr/>
            </p:nvSpPr>
            <p:spPr>
              <a:xfrm flipH="1">
                <a:off x="6064560" y="1791000"/>
                <a:ext cx="821520" cy="10461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6" name="Arc 62"/>
              <p:cNvSpPr/>
              <p:nvPr/>
            </p:nvSpPr>
            <p:spPr>
              <a:xfrm>
                <a:off x="6886440" y="1792800"/>
                <a:ext cx="502200" cy="522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37" name="Text Box 63"/>
              <p:cNvSpPr/>
              <p:nvPr/>
            </p:nvSpPr>
            <p:spPr>
              <a:xfrm>
                <a:off x="5915520" y="1193760"/>
                <a:ext cx="194184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3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x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38" name="Group 64"/>
            <p:cNvGrpSpPr/>
            <p:nvPr/>
          </p:nvGrpSpPr>
          <p:grpSpPr>
            <a:xfrm>
              <a:off x="687240" y="3510360"/>
              <a:ext cx="1941840" cy="1343880"/>
              <a:chOff x="687240" y="3510360"/>
              <a:chExt cx="1941840" cy="1343880"/>
            </a:xfrm>
          </p:grpSpPr>
          <p:sp>
            <p:nvSpPr>
              <p:cNvPr id="239" name="Arc 65"/>
              <p:cNvSpPr/>
              <p:nvPr/>
            </p:nvSpPr>
            <p:spPr>
              <a:xfrm flipH="1" flipV="1">
                <a:off x="686520" y="4032000"/>
                <a:ext cx="1642680" cy="82188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0" name="Text Box 66"/>
              <p:cNvSpPr/>
              <p:nvPr/>
            </p:nvSpPr>
            <p:spPr>
              <a:xfrm>
                <a:off x="911520" y="3510360"/>
                <a:ext cx="17175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1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+a</a:t>
                </a:r>
                <a:r>
                  <a:rPr b="1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隶书"/>
                  </a:rPr>
                  <a:t>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/x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67"/>
            <p:cNvGrpSpPr/>
            <p:nvPr/>
          </p:nvGrpSpPr>
          <p:grpSpPr>
            <a:xfrm>
              <a:off x="3151800" y="3510360"/>
              <a:ext cx="1717560" cy="1419120"/>
              <a:chOff x="3151800" y="3510360"/>
              <a:chExt cx="1717560" cy="1419120"/>
            </a:xfrm>
          </p:grpSpPr>
          <p:sp>
            <p:nvSpPr>
              <p:cNvPr id="242" name="Arc 68"/>
              <p:cNvSpPr/>
              <p:nvPr/>
            </p:nvSpPr>
            <p:spPr>
              <a:xfrm flipV="1">
                <a:off x="3375720" y="3583800"/>
                <a:ext cx="1418760" cy="1345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3" name="Text Box 69"/>
              <p:cNvSpPr/>
              <p:nvPr/>
            </p:nvSpPr>
            <p:spPr>
              <a:xfrm>
                <a:off x="3151800" y="3510360"/>
                <a:ext cx="17175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e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  <a:ea typeface="隶书"/>
                  </a:rPr>
                  <a:t>bx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70"/>
            <p:cNvGrpSpPr/>
            <p:nvPr/>
          </p:nvGrpSpPr>
          <p:grpSpPr>
            <a:xfrm>
              <a:off x="6064920" y="3585600"/>
              <a:ext cx="1717560" cy="1344240"/>
              <a:chOff x="6064920" y="3585600"/>
              <a:chExt cx="1717560" cy="1344240"/>
            </a:xfrm>
          </p:grpSpPr>
          <p:sp>
            <p:nvSpPr>
              <p:cNvPr id="245" name="Arc 71"/>
              <p:cNvSpPr/>
              <p:nvPr/>
            </p:nvSpPr>
            <p:spPr>
              <a:xfrm flipH="1" flipV="1">
                <a:off x="6064920" y="3809520"/>
                <a:ext cx="1493280" cy="11203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246" name="Text Box 72"/>
              <p:cNvSpPr/>
              <p:nvPr/>
            </p:nvSpPr>
            <p:spPr>
              <a:xfrm>
                <a:off x="6064920" y="3585600"/>
                <a:ext cx="1717560" cy="44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8680" rIns="58680" tIns="29160" bIns="2916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  <a:ea typeface="隶书"/>
                  </a:rPr>
                  <a:t>f=ae</a:t>
                </a:r>
                <a:r>
                  <a:rPr b="1" lang="en-US" sz="1800" spc="-1" strike="noStrike" baseline="30000">
                    <a:solidFill>
                      <a:srgbClr val="000000"/>
                    </a:solidFill>
                    <a:latin typeface="Times New Roman"/>
                    <a:ea typeface="隶书"/>
                  </a:rPr>
                  <a:t>-bx</a:t>
                </a:r>
                <a:endParaRPr b="1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Model selection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Measure of the relative goodness of fit of a statistical mod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Akaike information criterion (AIC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Bayesian information criterion (BIC)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1692360" y="3716280"/>
            <a:ext cx="2808360" cy="441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"/>
          <p:cNvPicPr/>
          <p:nvPr/>
        </p:nvPicPr>
        <p:blipFill>
          <a:blip r:embed="rId2"/>
          <a:stretch/>
        </p:blipFill>
        <p:spPr>
          <a:xfrm>
            <a:off x="1692360" y="4797360"/>
            <a:ext cx="3887640" cy="4986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1476360" y="69228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热敏电阻数据，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度时的电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3"/>
              <p:cNvSpPr txBox="1"/>
              <p:nvPr/>
            </p:nvSpPr>
            <p:spPr>
              <a:xfrm>
                <a:off x="1079640" y="1539720"/>
                <a:ext cx="5396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sSup>
                      <m:e>
                        <m:r>
                          <m:t xml:space="preserve">(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Object 4"/>
              <p:cNvSpPr txBox="1"/>
              <p:nvPr/>
            </p:nvSpPr>
            <p:spPr>
              <a:xfrm>
                <a:off x="1116000" y="1989000"/>
                <a:ext cx="503280" cy="2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Rectangle 5"/>
          <p:cNvSpPr/>
          <p:nvPr/>
        </p:nvSpPr>
        <p:spPr>
          <a:xfrm>
            <a:off x="521640" y="14842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温度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395280" y="1413000"/>
          <a:ext cx="7129440" cy="885600"/>
        </p:xfrm>
        <a:graphic>
          <a:graphicData uri="http://schemas.openxmlformats.org/drawingml/2006/table">
            <a:tbl>
              <a:tblPr/>
              <a:tblGrid>
                <a:gridCol w="1427040"/>
                <a:gridCol w="762120"/>
                <a:gridCol w="1209600"/>
                <a:gridCol w="1209600"/>
                <a:gridCol w="1209960"/>
                <a:gridCol w="1311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.7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.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.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7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7a77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电阻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3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Text Box 29"/>
          <p:cNvSpPr/>
          <p:nvPr/>
        </p:nvSpPr>
        <p:spPr>
          <a:xfrm>
            <a:off x="181080" y="6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30"/>
          <p:cNvSpPr/>
          <p:nvPr/>
        </p:nvSpPr>
        <p:spPr>
          <a:xfrm>
            <a:off x="395280" y="24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先对数据点作图，可以看出数据点的分布近似为直    线，所以选取基函数                 ，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待定系数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8" name="Rectangle 32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31"/>
              <p:cNvSpPr txBox="1"/>
              <p:nvPr/>
            </p:nvSpPr>
            <p:spPr>
              <a:xfrm>
                <a:off x="3203640" y="2887560"/>
                <a:ext cx="143964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t</m:t>
                    </m:r>
                    <m:r>
                      <m:t xml:space="preserve">+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34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1" name="Object 33"/>
              <p:cNvSpPr txBox="1"/>
              <p:nvPr/>
            </p:nvSpPr>
            <p:spPr>
              <a:xfrm>
                <a:off x="1447920" y="3429000"/>
                <a:ext cx="6335640" cy="25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ogramme</m:t>
                              </m:r>
                              <m:r>
                                <m:t xml:space="preserve">5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76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826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873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942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1032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yfi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yval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2" name="Text Box 35"/>
          <p:cNvSpPr/>
          <p:nvPr/>
        </p:nvSpPr>
        <p:spPr>
          <a:xfrm>
            <a:off x="39528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81080" y="227664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90"/>
          <p:cNvSpPr/>
          <p:nvPr/>
        </p:nvSpPr>
        <p:spPr>
          <a:xfrm>
            <a:off x="395280" y="49417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：先对数据点作图，经观察选取基函数                  ，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待定系数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5" name="Rectangle 92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91"/>
              <p:cNvSpPr txBox="1"/>
              <p:nvPr/>
            </p:nvSpPr>
            <p:spPr>
              <a:xfrm>
                <a:off x="6012000" y="4933800"/>
                <a:ext cx="15127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c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Text Box 95"/>
          <p:cNvSpPr/>
          <p:nvPr/>
        </p:nvSpPr>
        <p:spPr>
          <a:xfrm>
            <a:off x="1476360" y="2276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已知一室模型快速静脉注射下的血药浓度数据，求血药浓度随时间的变化规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(t).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97"/>
              <p:cNvSpPr txBox="1"/>
              <p:nvPr/>
            </p:nvSpPr>
            <p:spPr>
              <a:xfrm>
                <a:off x="1547640" y="3571920"/>
                <a:ext cx="64800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96"/>
              <p:cNvSpPr txBox="1"/>
              <p:nvPr/>
            </p:nvSpPr>
            <p:spPr>
              <a:xfrm>
                <a:off x="1044720" y="4292640"/>
                <a:ext cx="122364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μg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l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Rectangle 98"/>
          <p:cNvSpPr/>
          <p:nvPr/>
        </p:nvSpPr>
        <p:spPr>
          <a:xfrm>
            <a:off x="0" y="28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Rectangle 109"/>
          <p:cNvSpPr/>
          <p:nvPr/>
        </p:nvSpPr>
        <p:spPr>
          <a:xfrm>
            <a:off x="0" y="28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971640" y="3427560"/>
          <a:ext cx="7489800" cy="1441440"/>
        </p:xfrm>
        <a:graphic>
          <a:graphicData uri="http://schemas.openxmlformats.org/drawingml/2006/table">
            <a:tbl>
              <a:tblPr/>
              <a:tblGrid>
                <a:gridCol w="1296720"/>
                <a:gridCol w="721080"/>
                <a:gridCol w="718920"/>
                <a:gridCol w="720720"/>
                <a:gridCol w="719280"/>
                <a:gridCol w="720720"/>
                <a:gridCol w="647640"/>
                <a:gridCol w="647640"/>
                <a:gridCol w="649440"/>
                <a:gridCol w="647640"/>
              </a:tblGrid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1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3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1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8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2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4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24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1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Text Box 241"/>
          <p:cNvSpPr/>
          <p:nvPr/>
        </p:nvSpPr>
        <p:spPr>
          <a:xfrm>
            <a:off x="468360" y="549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结果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242"/>
          <p:cNvSpPr/>
          <p:nvPr/>
        </p:nvSpPr>
        <p:spPr>
          <a:xfrm>
            <a:off x="2124000" y="654120"/>
            <a:ext cx="49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987  702.0968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 =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6.0212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2"/>
              <p:cNvSpPr txBox="1"/>
              <p:nvPr/>
            </p:nvSpPr>
            <p:spPr>
              <a:xfrm>
                <a:off x="1332000" y="765000"/>
                <a:ext cx="7812000" cy="314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ogramme</m:t>
                              </m:r>
                              <m:r>
                                <m:t xml:space="preserve">6</m:t>
                              </m:r>
                            </m:e>
                          </m:mr>
                        </m:m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2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3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4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8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polyfit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7" name="Text Box 4"/>
          <p:cNvSpPr/>
          <p:nvPr/>
        </p:nvSpPr>
        <p:spPr>
          <a:xfrm>
            <a:off x="324000" y="6922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324000" y="39085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出结果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6"/>
          <p:cNvSpPr/>
          <p:nvPr/>
        </p:nvSpPr>
        <p:spPr>
          <a:xfrm>
            <a:off x="1908000" y="396720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 =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347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.9709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7"/>
          <p:cNvSpPr/>
          <p:nvPr/>
        </p:nvSpPr>
        <p:spPr>
          <a:xfrm>
            <a:off x="395280" y="5229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即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2" name="Object 8"/>
              <p:cNvSpPr txBox="1"/>
              <p:nvPr/>
            </p:nvSpPr>
            <p:spPr>
              <a:xfrm>
                <a:off x="1042920" y="5278320"/>
                <a:ext cx="2952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09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347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324000" y="66816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非线性最小二乘拟合实验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84" name="Picture 3" descr="23"/>
          <p:cNvPicPr/>
          <p:nvPr/>
        </p:nvPicPr>
        <p:blipFill>
          <a:blip r:embed="rId1"/>
          <a:stretch/>
        </p:blipFill>
        <p:spPr>
          <a:xfrm>
            <a:off x="684360" y="1268280"/>
            <a:ext cx="7775280" cy="2159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24"/>
          <p:cNvPicPr/>
          <p:nvPr/>
        </p:nvPicPr>
        <p:blipFill>
          <a:blip r:embed="rId2"/>
          <a:stretch/>
        </p:blipFill>
        <p:spPr>
          <a:xfrm>
            <a:off x="755640" y="3573360"/>
            <a:ext cx="7632720" cy="17748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5"/>
              <p:cNvSpPr txBox="1"/>
              <p:nvPr/>
            </p:nvSpPr>
            <p:spPr>
              <a:xfrm>
                <a:off x="841320" y="5373720"/>
                <a:ext cx="573264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qcurvefit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fun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qcurvefit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fun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y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tions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8135640" cy="14288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642960" y="2857680"/>
            <a:ext cx="809928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7920000" cy="3745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448840" cy="1143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"/>
          <p:cNvPicPr/>
          <p:nvPr/>
        </p:nvPicPr>
        <p:blipFill>
          <a:blip r:embed="rId2"/>
          <a:stretch/>
        </p:blipFill>
        <p:spPr>
          <a:xfrm>
            <a:off x="428760" y="2143080"/>
            <a:ext cx="8470800" cy="214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2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9460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26"/>
          <p:cNvPicPr/>
          <p:nvPr/>
        </p:nvPicPr>
        <p:blipFill>
          <a:blip r:embed="rId2"/>
          <a:stretch/>
        </p:blipFill>
        <p:spPr>
          <a:xfrm>
            <a:off x="684360" y="2060640"/>
            <a:ext cx="7343640" cy="2397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4" name="Object 4"/>
              <p:cNvSpPr txBox="1"/>
              <p:nvPr/>
            </p:nvSpPr>
            <p:spPr>
              <a:xfrm>
                <a:off x="900000" y="4653000"/>
                <a:ext cx="49672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qnonlin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fun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qnonlin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fun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options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27"/>
          <p:cNvPicPr/>
          <p:nvPr/>
        </p:nvPicPr>
        <p:blipFill>
          <a:blip r:embed="rId1"/>
          <a:stretch/>
        </p:blipFill>
        <p:spPr>
          <a:xfrm>
            <a:off x="468360" y="620640"/>
            <a:ext cx="8280360" cy="109548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3"/>
          <p:cNvSpPr/>
          <p:nvPr/>
        </p:nvSpPr>
        <p:spPr>
          <a:xfrm>
            <a:off x="108000" y="1916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1258920" y="19162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下面一组数据拟合                       中的参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4091040" y="1916280"/>
                <a:ext cx="1896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e</m:t>
                        </m:r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Object 8"/>
              <p:cNvSpPr txBox="1"/>
              <p:nvPr/>
            </p:nvSpPr>
            <p:spPr>
              <a:xfrm>
                <a:off x="1332000" y="2635200"/>
                <a:ext cx="272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Object 7"/>
              <p:cNvSpPr txBox="1"/>
              <p:nvPr/>
            </p:nvSpPr>
            <p:spPr>
              <a:xfrm>
                <a:off x="1116000" y="3427560"/>
                <a:ext cx="64764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01" name="Rectangle 9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2" name="Rectangle 21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1042920" y="2492280"/>
          <a:ext cx="7058160" cy="1513080"/>
        </p:xfrm>
        <a:graphic>
          <a:graphicData uri="http://schemas.openxmlformats.org/drawingml/2006/table">
            <a:tbl>
              <a:tblPr/>
              <a:tblGrid>
                <a:gridCol w="687600"/>
                <a:gridCol w="609480"/>
                <a:gridCol w="647640"/>
                <a:gridCol w="647640"/>
                <a:gridCol w="598680"/>
                <a:gridCol w="625320"/>
                <a:gridCol w="649440"/>
                <a:gridCol w="647640"/>
                <a:gridCol w="647640"/>
                <a:gridCol w="647640"/>
                <a:gridCol w="64944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4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3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65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9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6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0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59</a:t>
                      </a:r>
                      <a:endParaRPr b="1" lang="en-US" sz="1800" spc="-1" strike="noStrike">
                        <a:solidFill>
                          <a:srgbClr val="007a77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Text Box 176"/>
          <p:cNvSpPr/>
          <p:nvPr/>
        </p:nvSpPr>
        <p:spPr>
          <a:xfrm>
            <a:off x="468360" y="436572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法一（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qcurvefit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）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5" name="Text Box 177"/>
          <p:cNvSpPr/>
          <p:nvPr/>
        </p:nvSpPr>
        <p:spPr>
          <a:xfrm>
            <a:off x="826920" y="4869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建立函数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vefun1.m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6" name="Rectangle 17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178"/>
              <p:cNvSpPr txBox="1"/>
              <p:nvPr/>
            </p:nvSpPr>
            <p:spPr>
              <a:xfrm>
                <a:off x="971640" y="5300640"/>
                <a:ext cx="568800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urvefun</m:t>
                              </m:r>
                              <m:r>
                                <m:t xml:space="preserve">1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tp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684360" y="620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                                    。然后建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如下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1403280" y="692280"/>
                <a:ext cx="3024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1" name="Text Box 8"/>
          <p:cNvSpPr/>
          <p:nvPr/>
        </p:nvSpPr>
        <p:spPr>
          <a:xfrm>
            <a:off x="539640" y="4406760"/>
            <a:ext cx="820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为文件名保存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文件后，在命令窗口中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输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e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后即可得到结果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611280" y="5321160"/>
            <a:ext cx="66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=0.0043    0.0051    0.0056    0.0059    0.0061  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62    0.0062    0.0063    0.0063    0.0063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0.0063   -0.0034    0.2542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Object 10"/>
              <p:cNvSpPr txBox="1"/>
              <p:nvPr/>
            </p:nvSpPr>
            <p:spPr>
              <a:xfrm>
                <a:off x="900000" y="1125360"/>
                <a:ext cx="4751640" cy="320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unction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programme</m:t>
                              </m:r>
                              <m:r>
                                <m:t xml:space="preserve">7</m:t>
                              </m:r>
                            </m:e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03</m:t>
                        </m:r>
                        <m:r>
                          <m:t xml:space="preserve">∗</m:t>
                        </m:r>
                        <m:r>
                          <m:t xml:space="preserve">[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m>
                          <m:mr>
                            <m:e/>
                          </m:mr>
                        </m:m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]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sqcurvefit</m:t>
                        </m:r>
                        <m:r>
                          <m:t xml:space="preserve">(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curvefun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urvefun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p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468360" y="549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法二（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qnonli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函数）</a:t>
            </a:r>
            <a:r>
              <a:rPr b="1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826920" y="981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首先建立函数文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vefun2.m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7" name="Rectangle 5"/>
          <p:cNvSpPr/>
          <p:nvPr/>
        </p:nvSpPr>
        <p:spPr>
          <a:xfrm>
            <a:off x="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755640" y="434016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然后在命令窗口中输入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9" name="Rectangle 8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Object 7"/>
              <p:cNvSpPr txBox="1"/>
              <p:nvPr/>
            </p:nvSpPr>
            <p:spPr>
              <a:xfrm>
                <a:off x="900000" y="4919760"/>
                <a:ext cx="460872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0</m:t>
                        </m:r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5</m:t>
                              </m:r>
                              <m:m>
                                <m:mr>
                                  <m:e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</m:t>
                                    </m:r>
                                    <m:r>
                                      <m:t xml:space="preserve">]</m:t>
                                    </m:r>
                                    <m:r>
                                      <m:t xml:space="preserve">;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x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lsqnonlin</m:t>
                              </m:r>
                              <m:r>
                                <m:t xml:space="preserve">(</m:t>
                              </m:r>
                              <m:r>
                                <m:t xml:space="preserve">'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urvefun</m:t>
                              </m:r>
                              <m:r>
                                <m:t xml:space="preserve">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',</m:t>
                              </m:r>
                              <m:r>
                                <m:t xml:space="preserve">x</m:t>
                              </m:r>
                              <m:r>
                                <m:t xml:space="preserve">0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f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urvefun</m:t>
                              </m:r>
                              <m:r>
                                <m:t xml:space="preserve">2</m:t>
                              </m:r>
                              <m:r>
                                <m:t xml:space="preserve">(</m:t>
                              </m:r>
                              <m:r>
                                <m:t xml:space="preserve">x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1" name="Rectangle 10"/>
          <p:cNvSpPr/>
          <p:nvPr/>
        </p:nvSpPr>
        <p:spPr>
          <a:xfrm>
            <a:off x="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762120" y="14479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function f=curvefun2(x)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tp=100:100:1000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cp=1e-03*[4.54,4.99,5.35,5.56,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5.90,6.10,6.26,6.39,6.50,6.59]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f=x(1)*x(2)*exp(-0.02*x(3)*tp)-cp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0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84360" y="549360"/>
            <a:ext cx="7775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果显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 =1.0e-003 *(0.2322   -0.1243   -0.2495   -0.2413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0.1668   -0.0724   0.0241    0.1159    0.2030  0.279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0.0063   -0.0034    0.2542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757080" y="1773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0.0063, b=-0.0034, k=0.254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0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目标函数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540640" cy="41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椭圆曲线拟合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5761080" cy="5511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"/>
          <p:cNvPicPr/>
          <p:nvPr/>
        </p:nvPicPr>
        <p:blipFill>
          <a:blip r:embed="rId2"/>
          <a:stretch/>
        </p:blipFill>
        <p:spPr>
          <a:xfrm>
            <a:off x="1692360" y="2421000"/>
            <a:ext cx="4895640" cy="3932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624720" cy="6335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406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归一法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1" name="Picture 4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561080" cy="6246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4064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Sampson error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333" name="Picture 4" descr=""/>
          <p:cNvPicPr/>
          <p:nvPr/>
        </p:nvPicPr>
        <p:blipFill>
          <a:blip r:embed="rId1"/>
          <a:stretch/>
        </p:blipFill>
        <p:spPr>
          <a:xfrm>
            <a:off x="900000" y="984240"/>
            <a:ext cx="6985080" cy="5873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611280" y="69228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插值法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Picture 3" descr="2"/>
          <p:cNvPicPr/>
          <p:nvPr/>
        </p:nvPicPr>
        <p:blipFill>
          <a:blip r:embed="rId1"/>
          <a:stretch/>
        </p:blipFill>
        <p:spPr>
          <a:xfrm>
            <a:off x="971640" y="1573200"/>
            <a:ext cx="734544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9640" y="69228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拉格朗日插值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4" name="Picture 3" descr="3"/>
          <p:cNvPicPr/>
          <p:nvPr/>
        </p:nvPicPr>
        <p:blipFill>
          <a:blip r:embed="rId1"/>
          <a:stretch/>
        </p:blipFill>
        <p:spPr>
          <a:xfrm>
            <a:off x="604800" y="1341360"/>
            <a:ext cx="8070840" cy="26766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5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828720" y="4152960"/>
                <a:ext cx="69832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⋯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50920" y="81108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8" name="Picture 3" descr="4"/>
          <p:cNvPicPr/>
          <p:nvPr/>
        </p:nvPicPr>
        <p:blipFill>
          <a:blip r:embed="rId1"/>
          <a:stretch/>
        </p:blipFill>
        <p:spPr>
          <a:xfrm>
            <a:off x="1187280" y="673200"/>
            <a:ext cx="7561440" cy="2900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24000" y="3645000"/>
            <a:ext cx="41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牛顿插值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826920" y="414972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利用拉格朗日插值公式计算时，当插值结点的个数有所变动时（实际生活中为了提高精度，有时需要增加插值结点的个数），拉格朗日基函数        就要随之发生变化，从而整个公式的结构也要发生变化，这在计算实践中是极不方便的，为了克服这一缺点，常采用牛顿插值。为此，我们首先要了解什么叫差商。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6"/>
              <p:cNvSpPr txBox="1"/>
              <p:nvPr/>
            </p:nvSpPr>
            <p:spPr>
              <a:xfrm>
                <a:off x="5472000" y="4941720"/>
                <a:ext cx="684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5"/>
          <p:cNvPicPr/>
          <p:nvPr/>
        </p:nvPicPr>
        <p:blipFill>
          <a:blip r:embed="rId1"/>
          <a:stretch/>
        </p:blipFill>
        <p:spPr>
          <a:xfrm>
            <a:off x="539640" y="1031760"/>
            <a:ext cx="8136000" cy="43419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684360" y="54936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插商具有以下性质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Picture 3" descr="6"/>
          <p:cNvPicPr/>
          <p:nvPr/>
        </p:nvPicPr>
        <p:blipFill>
          <a:blip r:embed="rId1"/>
          <a:stretch/>
        </p:blipFill>
        <p:spPr>
          <a:xfrm>
            <a:off x="826920" y="1197000"/>
            <a:ext cx="7561440" cy="10191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7"/>
          <p:cNvPicPr/>
          <p:nvPr/>
        </p:nvPicPr>
        <p:blipFill>
          <a:blip r:embed="rId2"/>
          <a:stretch/>
        </p:blipFill>
        <p:spPr>
          <a:xfrm>
            <a:off x="826920" y="2565360"/>
            <a:ext cx="7417080" cy="103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8"/>
          <p:cNvPicPr/>
          <p:nvPr/>
        </p:nvPicPr>
        <p:blipFill>
          <a:blip r:embed="rId3"/>
          <a:stretch/>
        </p:blipFill>
        <p:spPr>
          <a:xfrm>
            <a:off x="826920" y="3860640"/>
            <a:ext cx="7488360" cy="1946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9"/>
          <p:cNvPicPr/>
          <p:nvPr/>
        </p:nvPicPr>
        <p:blipFill>
          <a:blip r:embed="rId1"/>
          <a:stretch/>
        </p:blipFill>
        <p:spPr>
          <a:xfrm>
            <a:off x="395280" y="1049400"/>
            <a:ext cx="7993080" cy="1587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10"/>
          <p:cNvPicPr/>
          <p:nvPr/>
        </p:nvPicPr>
        <p:blipFill>
          <a:blip r:embed="rId2"/>
          <a:stretch/>
        </p:blipFill>
        <p:spPr>
          <a:xfrm>
            <a:off x="395280" y="3030480"/>
            <a:ext cx="8209080" cy="26305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06:05Z</dcterms:created>
  <dc:creator>daniel</dc:creator>
  <dc:description/>
  <dc:language>en-US</dc:language>
  <cp:lastModifiedBy>Chen</cp:lastModifiedBy>
  <dcterms:modified xsi:type="dcterms:W3CDTF">2014-08-31T07:35:18Z</dcterms:modified>
  <cp:revision>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