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2.wmf" ContentType="image/x-wmf"/>
  <Override PartName="/ppt/media/image25.png" ContentType="image/png"/>
  <Override PartName="/ppt/media/image24.png" ContentType="image/png"/>
  <Override PartName="/ppt/media/image22.wmf" ContentType="image/x-wmf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5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8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3.wmf" ContentType="image/x-wmf"/>
  <Override PartName="/ppt/media/image33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5.jpeg" ContentType="image/jpeg"/>
  <Override PartName="/ppt/media/image11.wmf" ContentType="image/x-wmf"/>
  <Override PartName="/ppt/media/image50.png" ContentType="image/png"/>
  <Override PartName="/ppt/media/image14.png" ContentType="image/png"/>
  <Override PartName="/ppt/media/image39.png" ContentType="image/png"/>
  <Override PartName="/ppt/media/image45.wmf" ContentType="image/x-wmf"/>
  <Override PartName="/ppt/media/image46.png" ContentType="image/png"/>
  <Override PartName="/ppt/media/image6.wmf" ContentType="image/x-wmf"/>
  <Override PartName="/ppt/media/image47.wmf" ContentType="image/x-wmf"/>
  <Override PartName="/ppt/media/image48.png" ContentType="image/png"/>
  <Override PartName="/ppt/media/image51.wmf" ContentType="image/x-wmf"/>
  <Override PartName="/ppt/media/image3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55.png" ContentType="image/png"/>
  <Override PartName="/ppt/media/image38.wmf" ContentType="image/x-wmf"/>
  <Override PartName="/ppt/media/image43.wmf" ContentType="image/x-wmf"/>
  <Override PartName="/ppt/media/image44.png" ContentType="image/png"/>
  <Override PartName="/ppt/media/image56.png" ContentType="image/png"/>
  <Override PartName="/ppt/media/image40.wmf" ContentType="image/x-wmf"/>
  <Override PartName="/ppt/media/image37.png" ContentType="image/png"/>
  <Override PartName="/ppt/media/image36.png" ContentType="image/png"/>
  <Override PartName="/ppt/media/image35.png" ContentType="image/png"/>
  <Override PartName="/ppt/media/image30.png" ContentType="image/png"/>
  <Override PartName="/ppt/media/image13.wmf" ContentType="image/x-wmf"/>
  <Override PartName="/ppt/media/image52.png" ContentType="image/png"/>
  <Override PartName="/ppt/media/image10.png" ContentType="image/png"/>
  <Override PartName="/ppt/media/image41.wmf" ContentType="image/x-wmf"/>
  <Override PartName="/ppt/media/image8.png" ContentType="image/png"/>
  <Override PartName="/ppt/media/image7.wmf" ContentType="image/x-wmf"/>
  <Override PartName="/ppt/media/image26.png" ContentType="image/png"/>
  <Override PartName="/ppt/media/image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A1E-FDC1-4261-BC65-AC7540094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F700-74A3-4570-8646-93C4DE61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FD4-DEE7-4B15-8788-7C70C69A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9251-66BC-4A7B-90A5-AC5AFB4E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E99-C58B-4DD9-9444-17FD924D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7322-7ACC-4CAD-AB5F-5878ED6A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0BFD-FE5C-4B93-B283-445757DC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CA4-501E-4D7B-8ACD-C15DF633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DF7-2B73-48C0-B9E6-E9BD24F5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81FB-CB3A-4684-BBD0-422A93A2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032C-4070-44A2-8F79-4CBFF27C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77B-F12D-4EC9-B29C-18246F9A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99511-ADCB-4C84-B3EC-BEDA474498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image" Target="../media/image23.jpeg"/><Relationship Id="rId4" Type="http://schemas.openxmlformats.org/officeDocument/2006/relationships/slide" Target="slide18.xml"/><Relationship Id="rId5" Type="http://schemas.openxmlformats.org/officeDocument/2006/relationships/slide" Target="slide2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8.xml"/><Relationship Id="rId3" Type="http://schemas.openxmlformats.org/officeDocument/2006/relationships/image" Target="../media/image3.wmf"/><Relationship Id="rId4" Type="http://schemas.openxmlformats.org/officeDocument/2006/relationships/slide" Target="slide56.xml"/><Relationship Id="rId5" Type="http://schemas.openxmlformats.org/officeDocument/2006/relationships/slide" Target="slide59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C:\MATLAB\bin\matlab.exe" TargetMode="External"/><Relationship Id="rId2" Type="http://schemas.openxmlformats.org/officeDocument/2006/relationships/slide" Target="slide17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C:\MATLAB\bin\matlab.exe" TargetMode="Externa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C:\MATLAB\bin\matlab.exe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3.xml"/><Relationship Id="rId5" Type="http://schemas.openxmlformats.org/officeDocument/2006/relationships/slide" Target="slide33.xml"/><Relationship Id="rId6" Type="http://schemas.openxmlformats.org/officeDocument/2006/relationships/slide" Target="slide35.xml"/><Relationship Id="rId7" Type="http://schemas.openxmlformats.org/officeDocument/2006/relationships/slide" Target="slide35.xml"/><Relationship Id="rId8" Type="http://schemas.openxmlformats.org/officeDocument/2006/relationships/slide" Target="slide38.xml"/><Relationship Id="rId9" Type="http://schemas.openxmlformats.org/officeDocument/2006/relationships/slide" Target="slide41.xml"/><Relationship Id="rId10" Type="http://schemas.openxmlformats.org/officeDocument/2006/relationships/slide" Target="slide42.xml"/><Relationship Id="rId11" Type="http://schemas.openxmlformats.org/officeDocument/2006/relationships/slide" Target="slide2.xml"/><Relationship Id="rId12" Type="http://schemas.openxmlformats.org/officeDocument/2006/relationships/slide" Target="slide44.xml"/><Relationship Id="rId13" Type="http://schemas.openxmlformats.org/officeDocument/2006/relationships/image" Target="../media/image32.wmf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hyperlink" Target="C:\MATLAB\bin\matlab.exe" TargetMode="External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C:\MATLAB\bin\matlab.exe" TargetMode="Externa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32000" y="1219320"/>
            <a:ext cx="662940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学建模与数学实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32767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作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4114800"/>
            <a:ext cx="3048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468360" y="338040"/>
          <a:ext cx="12573000" cy="61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8040"/>
                    <a:ext cx="12573000" cy="6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379080" y="110016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解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先建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文件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myfun1.m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function Y=myfun1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Y=exp(2*x)+sin(3*x^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98200" y="2133720"/>
            <a:ext cx="42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再输入命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fplot(‘myfun1’,[-1,2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54280" y="349164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403280" y="2889360"/>
            <a:ext cx="576108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78480" y="189000"/>
            <a:ext cx="403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-2,2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范围内绘制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n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图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lot(‘tanh’,[-2,2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54280" y="349164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6624720" cy="52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97160" y="1171440"/>
            <a:ext cx="654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输入命令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lot(‘[tanh(x),sin(x),cos(x)]’,2*pi*[-1, 1, –1, 1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fplot(‘[tanh(x),sin(x),cos(x)]’,2*pi*[-1, 1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8640" y="187560"/>
            <a:ext cx="411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取值范围都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-2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π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画函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anh(x),sin(x),cos(x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图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54280" y="349164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2492280"/>
            <a:ext cx="4500720" cy="36576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619520" y="2492280"/>
            <a:ext cx="452448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359160" y="380880"/>
            <a:ext cx="16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数坐标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99072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说明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很多工程问题，通过对数据进行对数转换可更清晰地看出数据的某些特征，在对数坐标系中描绘数据点的曲线，可直接地表现对数转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数转换有双对数坐标转换和单轴对数坐标转换两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双对数坐标转换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oglog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单轴对数坐标转换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emilog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emilog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44720" y="4154400"/>
            <a:ext cx="6994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loglog(X, Y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坐标都是以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底的对数比例坐标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emilogx(X, Y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坐标轴是对数坐标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emilogy(…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坐标轴是对数坐标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loty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个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坐标轴，左、右边各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94120" y="422280"/>
            <a:ext cx="364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方形标记创建一个简单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gl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6400" y="1184400"/>
            <a:ext cx="314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输入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logspace(-1,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glog(x,exp(x),’-s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grid on     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标注格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01000" y="5943600"/>
            <a:ext cx="762120" cy="509760"/>
          </a:xfrm>
          <a:custGeom>
            <a:avLst/>
            <a:gdLst>
              <a:gd name="textAreaLeft" fmla="*/ 32760 w 762120"/>
              <a:gd name="textAreaRight" fmla="*/ 729360 w 7621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2286" h="21600">
                <a:moveTo>
                  <a:pt x="0" y="0"/>
                </a:moveTo>
                <a:lnTo>
                  <a:pt x="32286" y="0"/>
                </a:lnTo>
                <a:lnTo>
                  <a:pt x="32286" y="21600"/>
                </a:lnTo>
                <a:lnTo>
                  <a:pt x="0" y="21600"/>
                </a:lnTo>
                <a:close/>
              </a:path>
              <a:path fill="lightenLess" w="32286" h="21600">
                <a:moveTo>
                  <a:pt x="0" y="0"/>
                </a:moveTo>
                <a:lnTo>
                  <a:pt x="32286" y="0"/>
                </a:lnTo>
                <a:lnTo>
                  <a:pt x="30886" y="1400"/>
                </a:lnTo>
                <a:lnTo>
                  <a:pt x="1400" y="1400"/>
                </a:lnTo>
                <a:close/>
              </a:path>
              <a:path fill="darken" w="32286" h="21600">
                <a:moveTo>
                  <a:pt x="32286" y="0"/>
                </a:moveTo>
                <a:lnTo>
                  <a:pt x="32286" y="21600"/>
                </a:lnTo>
                <a:lnTo>
                  <a:pt x="30886" y="20200"/>
                </a:lnTo>
                <a:lnTo>
                  <a:pt x="30886" y="1400"/>
                </a:lnTo>
                <a:close/>
              </a:path>
              <a:path fill="darkenLess" w="32286" h="21600">
                <a:moveTo>
                  <a:pt x="32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86" y="20200"/>
                </a:lnTo>
                <a:close/>
              </a:path>
              <a:path fill="lighten" w="32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518472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446120" y="404640"/>
            <a:ext cx="279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创建一个简单的半对数坐标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输入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=0:.1: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milogy(x,10.^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01000" y="5943600"/>
            <a:ext cx="762120" cy="509760"/>
          </a:xfrm>
          <a:custGeom>
            <a:avLst/>
            <a:gdLst>
              <a:gd name="textAreaLeft" fmla="*/ 32760 w 762120"/>
              <a:gd name="textAreaRight" fmla="*/ 729360 w 7621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2286" h="21600">
                <a:moveTo>
                  <a:pt x="0" y="0"/>
                </a:moveTo>
                <a:lnTo>
                  <a:pt x="32286" y="0"/>
                </a:lnTo>
                <a:lnTo>
                  <a:pt x="32286" y="21600"/>
                </a:lnTo>
                <a:lnTo>
                  <a:pt x="0" y="21600"/>
                </a:lnTo>
                <a:close/>
              </a:path>
              <a:path fill="lightenLess" w="32286" h="21600">
                <a:moveTo>
                  <a:pt x="0" y="0"/>
                </a:moveTo>
                <a:lnTo>
                  <a:pt x="32286" y="0"/>
                </a:lnTo>
                <a:lnTo>
                  <a:pt x="30886" y="1400"/>
                </a:lnTo>
                <a:lnTo>
                  <a:pt x="1400" y="1400"/>
                </a:lnTo>
                <a:close/>
              </a:path>
              <a:path fill="darken" w="32286" h="21600">
                <a:moveTo>
                  <a:pt x="32286" y="0"/>
                </a:moveTo>
                <a:lnTo>
                  <a:pt x="32286" y="21600"/>
                </a:lnTo>
                <a:lnTo>
                  <a:pt x="30886" y="20200"/>
                </a:lnTo>
                <a:lnTo>
                  <a:pt x="30886" y="1400"/>
                </a:lnTo>
                <a:close/>
              </a:path>
              <a:path fill="darkenLess" w="32286" h="21600">
                <a:moveTo>
                  <a:pt x="32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86" y="20200"/>
                </a:lnTo>
                <a:close/>
              </a:path>
              <a:path fill="lighten" w="32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56898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961360" y="40464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绘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函数图、对数坐标图、半对数坐标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01000" y="5943600"/>
            <a:ext cx="762120" cy="509760"/>
          </a:xfrm>
          <a:custGeom>
            <a:avLst/>
            <a:gdLst>
              <a:gd name="textAreaLeft" fmla="*/ 32760 w 762120"/>
              <a:gd name="textAreaRight" fmla="*/ 729360 w 7621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2286" h="21600">
                <a:moveTo>
                  <a:pt x="0" y="0"/>
                </a:moveTo>
                <a:lnTo>
                  <a:pt x="32286" y="0"/>
                </a:lnTo>
                <a:lnTo>
                  <a:pt x="32286" y="21600"/>
                </a:lnTo>
                <a:lnTo>
                  <a:pt x="0" y="21600"/>
                </a:lnTo>
                <a:close/>
              </a:path>
              <a:path fill="lightenLess" w="32286" h="21600">
                <a:moveTo>
                  <a:pt x="0" y="0"/>
                </a:moveTo>
                <a:lnTo>
                  <a:pt x="32286" y="0"/>
                </a:lnTo>
                <a:lnTo>
                  <a:pt x="30886" y="1400"/>
                </a:lnTo>
                <a:lnTo>
                  <a:pt x="1400" y="1400"/>
                </a:lnTo>
                <a:close/>
              </a:path>
              <a:path fill="darken" w="32286" h="21600">
                <a:moveTo>
                  <a:pt x="32286" y="0"/>
                </a:moveTo>
                <a:lnTo>
                  <a:pt x="32286" y="21600"/>
                </a:lnTo>
                <a:lnTo>
                  <a:pt x="30886" y="20200"/>
                </a:lnTo>
                <a:lnTo>
                  <a:pt x="30886" y="1400"/>
                </a:lnTo>
                <a:close/>
              </a:path>
              <a:path fill="darkenLess" w="32286" h="21600">
                <a:moveTo>
                  <a:pt x="32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86" y="20200"/>
                </a:lnTo>
                <a:close/>
              </a:path>
              <a:path fill="lighten" w="32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5400720" cy="4411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42920" y="83664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semilogy(x,x.^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grid 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title 'semilogy   logy=x^3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408720" y="838080"/>
            <a:ext cx="2735280" cy="51069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895480" y="838080"/>
            <a:ext cx="2514600" cy="609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Courier New"/>
              </a:rPr>
              <a:t>三维图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4600" y="2286000"/>
            <a:ext cx="59436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空间曲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3505320"/>
            <a:ext cx="5181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空间曲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6" action="ppaction://hlinksldjump"/>
          </p:cNvPr>
          <p:cNvSpPr/>
          <p:nvPr/>
        </p:nvSpPr>
        <p:spPr>
          <a:xfrm>
            <a:off x="7086600" y="5791320"/>
            <a:ext cx="762120" cy="509400"/>
          </a:xfrm>
          <a:custGeom>
            <a:avLst/>
            <a:gdLst>
              <a:gd name="textAreaLeft" fmla="*/ 32760 w 762120"/>
              <a:gd name="textAreaRight" fmla="*/ 729360 w 76212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32308" h="21600">
                <a:moveTo>
                  <a:pt x="0" y="0"/>
                </a:moveTo>
                <a:lnTo>
                  <a:pt x="32308" y="0"/>
                </a:lnTo>
                <a:lnTo>
                  <a:pt x="32308" y="21600"/>
                </a:lnTo>
                <a:lnTo>
                  <a:pt x="0" y="21600"/>
                </a:lnTo>
                <a:close/>
              </a:path>
              <a:path fill="lightenLess" w="32308" h="21600">
                <a:moveTo>
                  <a:pt x="0" y="0"/>
                </a:moveTo>
                <a:lnTo>
                  <a:pt x="32308" y="0"/>
                </a:lnTo>
                <a:lnTo>
                  <a:pt x="30909" y="1400"/>
                </a:lnTo>
                <a:lnTo>
                  <a:pt x="1400" y="1400"/>
                </a:lnTo>
                <a:close/>
              </a:path>
              <a:path fill="darken" w="32308" h="21600">
                <a:moveTo>
                  <a:pt x="32308" y="0"/>
                </a:moveTo>
                <a:lnTo>
                  <a:pt x="32308" y="21600"/>
                </a:lnTo>
                <a:lnTo>
                  <a:pt x="30909" y="20200"/>
                </a:lnTo>
                <a:lnTo>
                  <a:pt x="30909" y="1400"/>
                </a:lnTo>
                <a:close/>
              </a:path>
              <a:path fill="darkenLess" w="32308" h="21600">
                <a:moveTo>
                  <a:pt x="32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9" y="20200"/>
                </a:lnTo>
                <a:close/>
              </a:path>
              <a:path fill="lighten" w="32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488400" y="534960"/>
            <a:ext cx="177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Courier New"/>
              </a:rPr>
              <a:t>空  间  曲  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2193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1" lang="zh-CN" sz="2800" spc="-1" strike="noStrike">
                <a:solidFill>
                  <a:srgbClr val="008000"/>
                </a:solidFill>
                <a:latin typeface="Courier New"/>
                <a:ea typeface="宋体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Courier New"/>
                <a:ea typeface="宋体"/>
              </a:rPr>
              <a:t>、 一条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4191120"/>
            <a:ext cx="990612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例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在区间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[0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10*pi]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画出参数曲线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=sin(t),y=cos(t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z=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2520" y="4952880"/>
            <a:ext cx="530136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解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t=0:pi/50:10*p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plot3(sin(t),cos(t),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rotate3d  %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旋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981080" y="2286000"/>
            <a:ext cx="3276720" cy="1069200"/>
            <a:chOff x="1981080" y="2286000"/>
            <a:chExt cx="3276720" cy="1069200"/>
          </a:xfrm>
        </p:grpSpPr>
        <p:sp>
          <p:nvSpPr>
            <p:cNvPr id="128" name=""/>
            <p:cNvSpPr/>
            <p:nvPr/>
          </p:nvSpPr>
          <p:spPr>
            <a:xfrm>
              <a:off x="1981080" y="2895480"/>
              <a:ext cx="3276720" cy="459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r>
                <a:rPr b="0" lang="zh-CN" sz="2400" spc="-1" strike="noStrike">
                  <a:solidFill>
                    <a:srgbClr val="000000"/>
                  </a:solidFill>
                  <a:latin typeface="Courier New"/>
                </a:rPr>
                <a:t>维向量，分别表示曲线上点集的横坐标、纵坐标、函数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95480" y="22860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352680" y="22860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267080" y="2286000"/>
            <a:ext cx="3353040" cy="1145520"/>
            <a:chOff x="4267080" y="2286000"/>
            <a:chExt cx="3353040" cy="1145520"/>
          </a:xfrm>
        </p:grpSpPr>
        <p:sp>
          <p:nvSpPr>
            <p:cNvPr id="132" name=""/>
            <p:cNvSpPr/>
            <p:nvPr/>
          </p:nvSpPr>
          <p:spPr>
            <a:xfrm>
              <a:off x="5791320" y="2971800"/>
              <a:ext cx="1828800" cy="459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ourier New"/>
                </a:rPr>
                <a:t>指定颜色、线形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67080" y="2286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197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419720" y="25909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5909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554040" y="164772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urier New"/>
              </a:rPr>
              <a:t>PLOT3(x,y,z,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64087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2286000" y="457200"/>
            <a:ext cx="4038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Matlab</a:t>
            </a: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作图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533520" y="1905120"/>
            <a:ext cx="2361960" cy="642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0099ff"/>
              </a:gs>
            </a:gsLst>
            <a:lin ang="5400000"/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urier New"/>
              </a:rPr>
              <a:t>二维图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1905120"/>
            <a:ext cx="2438280" cy="6426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urier New"/>
              </a:rPr>
              <a:t>三维图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2" action="ppaction://hlinksldjump"/>
          </p:cNvPr>
          <p:cNvSpPr/>
          <p:nvPr/>
        </p:nvSpPr>
        <p:spPr>
          <a:xfrm>
            <a:off x="5943600" y="1905120"/>
            <a:ext cx="2666880" cy="64260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ccffff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urier New"/>
              </a:rPr>
              <a:t>图形处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970600" y="4530600"/>
            <a:ext cx="3173400" cy="232740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6095880" y="2971800"/>
            <a:ext cx="2210040" cy="1371600"/>
          </a:xfrm>
          <a:prstGeom prst="irregularSeal2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实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3429000" y="4343400"/>
            <a:ext cx="1295280" cy="1828800"/>
          </a:xfrm>
          <a:prstGeom prst="verticalScroll">
            <a:avLst>
              <a:gd name="adj" fmla="val 12500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幼圆"/>
              </a:rPr>
              <a:t>作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124080"/>
            <a:ext cx="4648320" cy="586080"/>
          </a:xfrm>
          <a:custGeom>
            <a:avLst/>
            <a:gdLst>
              <a:gd name="textAreaLeft" fmla="*/ 37800 w 4648320"/>
              <a:gd name="textAreaRight" fmla="*/ 4610520 w 4648320"/>
              <a:gd name="textAreaTop" fmla="*/ 37800 h 586080"/>
              <a:gd name="textAreaBottom" fmla="*/ 548280 h 586080"/>
            </a:gdLst>
            <a:ahLst/>
            <a:rect l="textAreaLeft" t="textAreaTop" r="textAreaRight" b="textAreaBottom"/>
            <a:pathLst>
              <a:path w="171222" h="21600">
                <a:moveTo>
                  <a:pt x="0" y="0"/>
                </a:moveTo>
                <a:lnTo>
                  <a:pt x="171222" y="0"/>
                </a:lnTo>
                <a:lnTo>
                  <a:pt x="171222" y="21600"/>
                </a:lnTo>
                <a:lnTo>
                  <a:pt x="0" y="21600"/>
                </a:lnTo>
                <a:close/>
              </a:path>
              <a:path fill="lightenLess" w="171222" h="21600">
                <a:moveTo>
                  <a:pt x="0" y="0"/>
                </a:moveTo>
                <a:lnTo>
                  <a:pt x="171222" y="0"/>
                </a:lnTo>
                <a:lnTo>
                  <a:pt x="169822" y="1400"/>
                </a:lnTo>
                <a:lnTo>
                  <a:pt x="1400" y="1400"/>
                </a:lnTo>
                <a:close/>
              </a:path>
              <a:path fill="darken" w="171222" h="21600">
                <a:moveTo>
                  <a:pt x="171222" y="0"/>
                </a:moveTo>
                <a:lnTo>
                  <a:pt x="171222" y="21600"/>
                </a:lnTo>
                <a:lnTo>
                  <a:pt x="169822" y="20200"/>
                </a:lnTo>
                <a:lnTo>
                  <a:pt x="169822" y="1400"/>
                </a:lnTo>
                <a:close/>
              </a:path>
              <a:path fill="darkenLess" w="171222" h="21600">
                <a:moveTo>
                  <a:pt x="1712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9822" y="20200"/>
                </a:lnTo>
                <a:close/>
              </a:path>
              <a:path fill="lighten" w="1712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ff00"/>
              </a:gs>
              <a:gs pos="100000">
                <a:srgbClr val="ff99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特殊二、三维图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36640" y="581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01600" y="309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8000"/>
                </a:solidFill>
                <a:latin typeface="Courier New"/>
              </a:rPr>
              <a:t>多条曲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8800" y="1928880"/>
            <a:ext cx="3914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例 画多条曲线观察函数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Z=(X+Y)</a:t>
            </a:r>
            <a:r>
              <a:rPr b="0" lang="zh-CN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30320" y="4191120"/>
            <a:ext cx="33627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meshgrid(x,y)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作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产生一个以向量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为行、向量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为列的矩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/>
          </p:cNvPr>
          <p:cNvSpPr/>
          <p:nvPr/>
        </p:nvSpPr>
        <p:spPr>
          <a:xfrm>
            <a:off x="5636520" y="2743200"/>
            <a:ext cx="199728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tlab  liti2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62720" y="1387440"/>
            <a:ext cx="35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都是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m×n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矩阵，对应的每一列表示一条曲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6280" y="2451240"/>
            <a:ext cx="468756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解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=-3:0.1:3;y=1:0.1: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[X,Y]=meshgrid(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Z=(X+Y).^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plot3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7772400" y="5791320"/>
            <a:ext cx="762120" cy="509400"/>
          </a:xfrm>
          <a:custGeom>
            <a:avLst/>
            <a:gdLst>
              <a:gd name="textAreaLeft" fmla="*/ 32760 w 762120"/>
              <a:gd name="textAreaRight" fmla="*/ 729360 w 76212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32308" h="21600">
                <a:moveTo>
                  <a:pt x="0" y="0"/>
                </a:moveTo>
                <a:lnTo>
                  <a:pt x="32308" y="0"/>
                </a:lnTo>
                <a:lnTo>
                  <a:pt x="32308" y="21600"/>
                </a:lnTo>
                <a:lnTo>
                  <a:pt x="0" y="21600"/>
                </a:lnTo>
                <a:close/>
              </a:path>
              <a:path fill="lightenLess" w="32308" h="21600">
                <a:moveTo>
                  <a:pt x="0" y="0"/>
                </a:moveTo>
                <a:lnTo>
                  <a:pt x="32308" y="0"/>
                </a:lnTo>
                <a:lnTo>
                  <a:pt x="30909" y="1400"/>
                </a:lnTo>
                <a:lnTo>
                  <a:pt x="1400" y="1400"/>
                </a:lnTo>
                <a:close/>
              </a:path>
              <a:path fill="darken" w="32308" h="21600">
                <a:moveTo>
                  <a:pt x="32308" y="0"/>
                </a:moveTo>
                <a:lnTo>
                  <a:pt x="32308" y="21600"/>
                </a:lnTo>
                <a:lnTo>
                  <a:pt x="30909" y="20200"/>
                </a:lnTo>
                <a:lnTo>
                  <a:pt x="30909" y="1400"/>
                </a:lnTo>
                <a:close/>
              </a:path>
              <a:path fill="darkenLess" w="32308" h="21600">
                <a:moveTo>
                  <a:pt x="32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9" y="20200"/>
                </a:lnTo>
                <a:close/>
              </a:path>
              <a:path fill="lighten" w="32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45480" y="9079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PLOT3(x,y,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50920" y="476280"/>
            <a:ext cx="4824720" cy="38052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24000" y="4508640"/>
            <a:ext cx="4032000" cy="1993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427640" y="4508640"/>
            <a:ext cx="410508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348200" y="3046320"/>
            <a:ext cx="5923080" cy="28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例  画函数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Z=(X+Y)</a:t>
            </a:r>
            <a:r>
              <a:rPr b="0" lang="zh-CN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的图形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解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=-3:0.1: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y=1:0.1: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[X,Y]=meshgrid(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Z=(X+Y).^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urf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hading  flat    %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将当前图形变得平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080" y="11415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(1)  surf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1217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画出数据点（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）表示的曲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2362320" y="1598760"/>
            <a:ext cx="2361960" cy="596520"/>
            <a:chOff x="2362320" y="1598760"/>
            <a:chExt cx="2361960" cy="596520"/>
          </a:xfrm>
        </p:grpSpPr>
        <p:sp>
          <p:nvSpPr>
            <p:cNvPr id="154" name=""/>
            <p:cNvSpPr/>
            <p:nvPr/>
          </p:nvSpPr>
          <p:spPr>
            <a:xfrm>
              <a:off x="2666880" y="159876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24080" y="159876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62320" y="1827000"/>
              <a:ext cx="2361960" cy="368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urier New"/>
                </a:rPr>
                <a:t>数据矩阵。分别表示数据点的横坐标、纵坐标、函数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133080" y="555480"/>
            <a:ext cx="159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Courier New"/>
              </a:rPr>
              <a:t>空  间  曲  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572000" cy="3551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72000" y="1125360"/>
            <a:ext cx="457200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33520" y="5191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）  </a:t>
            </a: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Mesh(x,y,z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3124080"/>
            <a:ext cx="967752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=-3:0.1:3;   y=1:0.1: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[X,Y]=meshgrid(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Z=(X+Y).^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mesh(X,Y,Z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"/>
          </p:cNvPr>
          <p:cNvSpPr/>
          <p:nvPr/>
        </p:nvSpPr>
        <p:spPr>
          <a:xfrm>
            <a:off x="6506280" y="4572000"/>
            <a:ext cx="199728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tlab  liti2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2514600"/>
            <a:ext cx="769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例 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画出曲面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Z=(X+Y)</a:t>
            </a:r>
            <a:r>
              <a:rPr b="0" lang="zh-CN" sz="2400" spc="-1" strike="noStrike" baseline="30000">
                <a:solidFill>
                  <a:srgbClr val="000000"/>
                </a:solidFill>
                <a:latin typeface="Courier New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在不同视角的网格图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533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画网格曲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209680" y="914400"/>
            <a:ext cx="2361960" cy="596880"/>
            <a:chOff x="2209680" y="914400"/>
            <a:chExt cx="2361960" cy="596880"/>
          </a:xfrm>
        </p:grpSpPr>
        <p:sp>
          <p:nvSpPr>
            <p:cNvPr id="166" name=""/>
            <p:cNvSpPr/>
            <p:nvPr/>
          </p:nvSpPr>
          <p:spPr>
            <a:xfrm>
              <a:off x="2514240" y="91440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971440" y="914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09680" y="1143000"/>
              <a:ext cx="2361960" cy="3682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urier New"/>
                </a:rPr>
                <a:t>数据矩阵。分别表示数据点的横坐标、纵坐标、函数值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16000" y="907920"/>
            <a:ext cx="604836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13920" y="598320"/>
            <a:ext cx="69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(3)meshz(X,Y,Z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在网格周围画一个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curtain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如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参考平面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8480" y="1697040"/>
            <a:ext cx="5484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输入命令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[X,Y]=meshgrid(-3:.125: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Z=peaks(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Meshz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6640" y="128412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例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绘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peaks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的网格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1"/>
          </p:cNvPr>
          <p:cNvSpPr/>
          <p:nvPr/>
        </p:nvSpPr>
        <p:spPr>
          <a:xfrm>
            <a:off x="6277680" y="3581280"/>
            <a:ext cx="199728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tlab  liti2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87280" y="549360"/>
            <a:ext cx="6409080" cy="50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5893920" y="838080"/>
            <a:ext cx="343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Courier New"/>
                <a:hlinkClick r:id="rId3" action="ppaction://hlinksldjump"/>
              </a:rPr>
              <a:t>在图形上加格栅、图例和标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4" action="ppaction://hlinksldjump"/>
          </p:cNvPr>
          <p:cNvSpPr/>
          <p:nvPr/>
        </p:nvSpPr>
        <p:spPr>
          <a:xfrm>
            <a:off x="3949920" y="1471680"/>
            <a:ext cx="1034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Courier New"/>
                <a:hlinkClick r:id="rId5" action="ppaction://hlinksldjump"/>
              </a:rPr>
              <a:t>定制坐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6" action="ppaction://hlinksldjump"/>
          </p:cNvPr>
          <p:cNvSpPr/>
          <p:nvPr/>
        </p:nvSpPr>
        <p:spPr>
          <a:xfrm>
            <a:off x="3942000" y="2081160"/>
            <a:ext cx="10342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Courier New"/>
                <a:hlinkClick r:id="rId7" action="ppaction://hlinksldjump"/>
              </a:rPr>
              <a:t>图形保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8" action="ppaction://hlinksldjump"/>
          </p:cNvPr>
          <p:cNvSpPr/>
          <p:nvPr/>
        </p:nvSpPr>
        <p:spPr>
          <a:xfrm>
            <a:off x="3949920" y="2614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分割窗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066680"/>
            <a:ext cx="79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19520" y="2895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1752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895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rId9" action="ppaction://hlinksldjump"/>
          </p:cNvPr>
          <p:cNvSpPr/>
          <p:nvPr/>
        </p:nvSpPr>
        <p:spPr>
          <a:xfrm>
            <a:off x="3942000" y="3200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缩放图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10666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3429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0" action="ppaction://hlinksldjump"/>
          </p:cNvPr>
          <p:cNvSpPr/>
          <p:nvPr/>
        </p:nvSpPr>
        <p:spPr>
          <a:xfrm>
            <a:off x="3949920" y="3733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改变视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32280" y="1297440"/>
            <a:ext cx="850680" cy="31424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图形处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3962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2362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11" action="ppaction://hlinksldjump"/>
          </p:cNvPr>
          <p:cNvSpPr/>
          <p:nvPr/>
        </p:nvSpPr>
        <p:spPr>
          <a:xfrm>
            <a:off x="3657600" y="5867280"/>
            <a:ext cx="762120" cy="509760"/>
          </a:xfrm>
          <a:custGeom>
            <a:avLst/>
            <a:gdLst>
              <a:gd name="textAreaLeft" fmla="*/ 32760 w 762120"/>
              <a:gd name="textAreaRight" fmla="*/ 729360 w 7621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2286" h="21600">
                <a:moveTo>
                  <a:pt x="0" y="0"/>
                </a:moveTo>
                <a:lnTo>
                  <a:pt x="32286" y="0"/>
                </a:lnTo>
                <a:lnTo>
                  <a:pt x="32286" y="21600"/>
                </a:lnTo>
                <a:lnTo>
                  <a:pt x="0" y="21600"/>
                </a:lnTo>
                <a:close/>
              </a:path>
              <a:path fill="lightenLess" w="32286" h="21600">
                <a:moveTo>
                  <a:pt x="0" y="0"/>
                </a:moveTo>
                <a:lnTo>
                  <a:pt x="32286" y="0"/>
                </a:lnTo>
                <a:lnTo>
                  <a:pt x="30886" y="1400"/>
                </a:lnTo>
                <a:lnTo>
                  <a:pt x="1400" y="1400"/>
                </a:lnTo>
                <a:close/>
              </a:path>
              <a:path fill="darken" w="32286" h="21600">
                <a:moveTo>
                  <a:pt x="32286" y="0"/>
                </a:moveTo>
                <a:lnTo>
                  <a:pt x="32286" y="21600"/>
                </a:lnTo>
                <a:lnTo>
                  <a:pt x="30886" y="20200"/>
                </a:lnTo>
                <a:lnTo>
                  <a:pt x="30886" y="1400"/>
                </a:lnTo>
                <a:close/>
              </a:path>
              <a:path fill="darkenLess" w="32286" h="21600">
                <a:moveTo>
                  <a:pt x="32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86" y="20200"/>
                </a:lnTo>
                <a:close/>
              </a:path>
              <a:path fill="lighten" w="32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12" action="ppaction://hlinksldjump"/>
          </p:cNvPr>
          <p:cNvSpPr/>
          <p:nvPr/>
        </p:nvSpPr>
        <p:spPr>
          <a:xfrm>
            <a:off x="3790440" y="4343400"/>
            <a:ext cx="12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动       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19520" y="45720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3"/>
          <a:stretch/>
        </p:blipFill>
        <p:spPr>
          <a:xfrm>
            <a:off x="5796000" y="3068640"/>
            <a:ext cx="3149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438280" y="304920"/>
            <a:ext cx="2743200" cy="6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urier New"/>
              </a:rPr>
              <a:t>处理图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424560" y="0"/>
            <a:ext cx="2719440" cy="2554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-14040" y="1994040"/>
            <a:ext cx="30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）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GRID ON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加格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68680" y="2467080"/>
            <a:ext cx="259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GRID OFF</a:t>
            </a:r>
            <a:r>
              <a:rPr b="1" lang="zh-CN" sz="2400" spc="-1" strike="noStrike">
                <a:solidFill>
                  <a:srgbClr val="008000"/>
                </a:solidFill>
                <a:latin typeface="宋体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删除格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4240" y="3476520"/>
            <a:ext cx="81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（</a:t>
            </a: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2</a:t>
            </a: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）</a:t>
            </a: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hh = xlabel(string)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在当前图形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轴上加图例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41360" y="5276880"/>
            <a:ext cx="69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hh = title(string)</a:t>
            </a: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在当前图形顶端上加图例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202040" y="462924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hh = zlabel(string)</a:t>
            </a: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在当前图形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轴上加图例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02040" y="405288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hh = ylabel(string)</a:t>
            </a: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在当前图形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轴上加图例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74400" y="1413000"/>
            <a:ext cx="71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Courier New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Courier New"/>
              </a:rPr>
              <a:t>、在图形上加格栅、图例和标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0080" y="907560"/>
            <a:ext cx="90439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urier New"/>
              </a:rPr>
              <a:t>Matlab</a:t>
            </a:r>
            <a:r>
              <a:rPr b="0" lang="zh-CN" sz="3200" spc="-1" strike="noStrike">
                <a:solidFill>
                  <a:srgbClr val="000000"/>
                </a:solidFill>
                <a:latin typeface="Courier New"/>
              </a:rPr>
              <a:t>作图通过描点、连线实现，故在画一个曲线图形之前，必须先取得该图形上的一系列的点的坐标（即横坐标、纵坐标），然后将该点集的坐标传给</a:t>
            </a:r>
            <a:r>
              <a:rPr b="0" lang="zh-CN" sz="3200" spc="-1" strike="noStrike">
                <a:solidFill>
                  <a:srgbClr val="000000"/>
                </a:solidFill>
                <a:latin typeface="Courier New"/>
              </a:rPr>
              <a:t>Matlab</a:t>
            </a:r>
            <a:r>
              <a:rPr b="0" lang="zh-CN" sz="3200" spc="-1" strike="noStrike">
                <a:solidFill>
                  <a:srgbClr val="000000"/>
                </a:solidFill>
                <a:latin typeface="Courier New"/>
              </a:rPr>
              <a:t>函数画图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5400" y="2757600"/>
            <a:ext cx="29847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命令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  <a:ea typeface="宋体"/>
              </a:rPr>
              <a:t>PLOT(X,Y,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85680" y="5257800"/>
            <a:ext cx="8105400" cy="15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  <a:ea typeface="宋体"/>
              </a:rPr>
              <a:t>PLOT(X,Y)--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画实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  <a:ea typeface="宋体"/>
              </a:rPr>
              <a:t>PLOT(X1,Y1,S1,X2,Y2,S2,……,Xn,Yn,S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  <a:ea typeface="宋体"/>
              </a:rPr>
              <a:t>--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将多条线画在一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18200" y="4572000"/>
            <a:ext cx="424044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,Y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：向量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分别表示点集的横坐标和纵坐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752480" y="380952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3733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048120" y="380952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90680" y="3809880"/>
            <a:ext cx="546480" cy="459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线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19640" y="2637000"/>
            <a:ext cx="3745080" cy="1333440"/>
          </a:xfrm>
          <a:prstGeom prst="wedgeRoundRectCallout">
            <a:avLst>
              <a:gd name="adj1" fmla="val -58861"/>
              <a:gd name="adj2" fmla="val 54879"/>
              <a:gd name="adj3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y 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黄色  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.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点    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- 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连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m 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洋红  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o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圈    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: 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短虚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c 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蓝绿色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x x-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符号 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-.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长短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r 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红色  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+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加号   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1" lang="zh-CN" sz="1600" spc="-1" strike="noStrike">
                <a:solidFill>
                  <a:srgbClr val="000000"/>
                </a:solidFill>
                <a:latin typeface="Courier New"/>
              </a:rPr>
              <a:t>长虚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304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ourier New"/>
              </a:rPr>
              <a:t>曲线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12920" y="30492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例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在区间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[0,2*pi]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画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in(x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的图形，并加注图例“自变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”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、“函数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Y”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、“示意图”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并加格栅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29528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=linspace(0,2*pi,3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y=sin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plot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xlabel(‘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自变量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X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ylabel(‘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函数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Y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title('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示意图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gri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48120" y="3962520"/>
            <a:ext cx="5486400" cy="252864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rId2"/>
          </p:cNvPr>
          <p:cNvSpPr/>
          <p:nvPr/>
        </p:nvSpPr>
        <p:spPr>
          <a:xfrm>
            <a:off x="5483880" y="1676520"/>
            <a:ext cx="199728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tlab  liti3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50920" y="4235400"/>
            <a:ext cx="77724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=linspace(0,2*pi,3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y=sin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z=cos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plot(x,y,x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gtext(‘sin(x)’);gtext(’cos(x)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7543800" y="5791320"/>
            <a:ext cx="762120" cy="509400"/>
          </a:xfrm>
          <a:custGeom>
            <a:avLst/>
            <a:gdLst>
              <a:gd name="textAreaLeft" fmla="*/ 32760 w 762120"/>
              <a:gd name="textAreaRight" fmla="*/ 729360 w 76212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32308" h="21600">
                <a:moveTo>
                  <a:pt x="0" y="0"/>
                </a:moveTo>
                <a:lnTo>
                  <a:pt x="32308" y="0"/>
                </a:lnTo>
                <a:lnTo>
                  <a:pt x="32308" y="21600"/>
                </a:lnTo>
                <a:lnTo>
                  <a:pt x="0" y="21600"/>
                </a:lnTo>
                <a:close/>
              </a:path>
              <a:path fill="lightenLess" w="32308" h="21600">
                <a:moveTo>
                  <a:pt x="0" y="0"/>
                </a:moveTo>
                <a:lnTo>
                  <a:pt x="32308" y="0"/>
                </a:lnTo>
                <a:lnTo>
                  <a:pt x="30909" y="1400"/>
                </a:lnTo>
                <a:lnTo>
                  <a:pt x="1400" y="1400"/>
                </a:lnTo>
                <a:close/>
              </a:path>
              <a:path fill="darken" w="32308" h="21600">
                <a:moveTo>
                  <a:pt x="32308" y="0"/>
                </a:moveTo>
                <a:lnTo>
                  <a:pt x="32308" y="21600"/>
                </a:lnTo>
                <a:lnTo>
                  <a:pt x="30909" y="20200"/>
                </a:lnTo>
                <a:lnTo>
                  <a:pt x="30909" y="1400"/>
                </a:lnTo>
                <a:close/>
              </a:path>
              <a:path fill="darkenLess" w="32308" h="21600">
                <a:moveTo>
                  <a:pt x="32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9" y="20200"/>
                </a:lnTo>
                <a:close/>
              </a:path>
              <a:path fill="lighten" w="32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200" y="692280"/>
            <a:ext cx="8137440" cy="14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命令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gtext(‘string’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：在现有图上用鼠标放置标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说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运行命令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gtext(‘string’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时，屏幕上出现当前图形，在图形上出现一个交叉的十字，该十字随鼠标的移动移动，当按下鼠标左键时，该标注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放在当前十交叉的位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3398760"/>
            <a:ext cx="79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例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在区间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[0,2*pi]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画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in(x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cos(x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并分别标注“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in(x)”,”cos(x)”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57040" y="260280"/>
            <a:ext cx="476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（</a:t>
            </a: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3</a:t>
            </a: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）  </a:t>
            </a: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hh = gtext(‘string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698508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09480" y="380880"/>
            <a:ext cx="2667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Courier New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Courier New"/>
              </a:rPr>
              <a:t>、定制坐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48680" y="955800"/>
            <a:ext cx="563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Axis([xmin xmax ymin ymax zmin zmax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5960" y="38098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=linspace(0.0001,0.01,10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y=sin(1./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plot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axis([0.005,0.01,–1,1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990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定制图形坐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19520" y="236232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坐标轴返回到自动缺省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2362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Axis au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1981080" y="1371600"/>
            <a:ext cx="4267440" cy="916920"/>
            <a:chOff x="1981080" y="1371600"/>
            <a:chExt cx="4267440" cy="916920"/>
          </a:xfrm>
        </p:grpSpPr>
        <p:sp>
          <p:nvSpPr>
            <p:cNvPr id="220" name=""/>
            <p:cNvSpPr/>
            <p:nvPr/>
          </p:nvSpPr>
          <p:spPr>
            <a:xfrm>
              <a:off x="1981080" y="1828800"/>
              <a:ext cx="3505320" cy="4597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、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的最大、最小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7400" y="1371600"/>
              <a:ext cx="419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09880" y="1371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1420560" y="3141720"/>
            <a:ext cx="545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例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在区间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[0.005,0.01]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显示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in(1/x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的图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4619520" cy="3609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572000" y="1413000"/>
            <a:ext cx="457200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09480" y="380880"/>
            <a:ext cx="26672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Courier New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Courier New"/>
              </a:rPr>
              <a:t>、图形保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8840" y="939960"/>
            <a:ext cx="2000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(1)  hold 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hold 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8200" y="2924280"/>
            <a:ext cx="530460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=linspace(0,2*pi,3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y=sin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z=cos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plot(x,z,’ro: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hold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Plot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086600" y="4800600"/>
            <a:ext cx="2057400" cy="17622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00400" y="9907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保持当前图形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以便继续画图到当前图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689640" y="13716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释放当前图形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47120" y="2133720"/>
            <a:ext cx="67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例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将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y=sin(x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y=cos(x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分别用点和线画出在同一屏幕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835280" y="1197000"/>
            <a:ext cx="55450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533520" y="380880"/>
            <a:ext cx="19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(2)    figure(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95840" y="1606680"/>
            <a:ext cx="438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例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区间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[0,2*pi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新建两个窗口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分别画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y=sin(x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；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z=cos(x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6440" y="2362320"/>
            <a:ext cx="5487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=linspace(0,2*pi,1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y=sin(x);z=cos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plot(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0" lang="zh-CN" sz="2400" spc="-1" strike="noStrike">
                <a:solidFill>
                  <a:srgbClr val="b22222"/>
                </a:solidFill>
                <a:latin typeface="Courier New"/>
              </a:rPr>
              <a:t>'sin(x)'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p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figure(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plot(x,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0" lang="zh-CN" sz="2400" spc="-1" strike="noStrike">
                <a:solidFill>
                  <a:srgbClr val="b22222"/>
                </a:solidFill>
                <a:latin typeface="Courier New"/>
              </a:rPr>
              <a:t>'cos(x)'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3808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新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窗口，激活图形使其可见，并把它置于其它图形之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68360" y="51768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Courier New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Courier New"/>
              </a:rPr>
              <a:t>、分割窗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25560" y="1050840"/>
            <a:ext cx="43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h=subplot(mrows,ncols,thispl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4800" y="150804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划分整个作图区域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rows×ncol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块（逐行对块访问）并激活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isplo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块，其后的作图语句将图形画在该块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4800" y="3032280"/>
            <a:ext cx="839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激活已划分为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rows×ncol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块的屏幕中的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isplo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块，其后的作图语句将图形画在该块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798560" y="455616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命令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ubplot(1,1,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非分割状态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257800" y="4376880"/>
            <a:ext cx="3886200" cy="24811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925560" y="23464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subplot(mrows,ncols,thisplo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25560" y="3946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subplot(1,1,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-228600" y="1371600"/>
            <a:ext cx="10058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=linspace(0,2*pi,10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y=sin(x); z=cos(x)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a=sin(x).*cos(x);b=sin(x)./(cos(x)+e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ubplot(2,2,1);plot(x,y),title(‘sin(x)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ubplot(2,2,2);plot(x,z),title(‘cos(x)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ubplot(2,2,3);plot(x,a),title(‘sin(x)cos(x)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subplot(2,2,4);plot(x,b),title(‘sin(x)/cos(x)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17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例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将屏幕分割为四块，并分别画出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y=sin(x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z=cos(x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a=sin(x)cos(x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b=sin(x)/cos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>
            <a:hlinkClick r:id="rId1" action="ppaction://hlinksldjump"/>
          </p:cNvPr>
          <p:cNvSpPr/>
          <p:nvPr/>
        </p:nvSpPr>
        <p:spPr>
          <a:xfrm>
            <a:off x="7696080" y="5791320"/>
            <a:ext cx="762120" cy="509400"/>
          </a:xfrm>
          <a:custGeom>
            <a:avLst/>
            <a:gdLst>
              <a:gd name="textAreaLeft" fmla="*/ 32760 w 762120"/>
              <a:gd name="textAreaRight" fmla="*/ 729360 w 76212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32308" h="21600">
                <a:moveTo>
                  <a:pt x="0" y="0"/>
                </a:moveTo>
                <a:lnTo>
                  <a:pt x="32308" y="0"/>
                </a:lnTo>
                <a:lnTo>
                  <a:pt x="32308" y="21600"/>
                </a:lnTo>
                <a:lnTo>
                  <a:pt x="0" y="21600"/>
                </a:lnTo>
                <a:close/>
              </a:path>
              <a:path fill="lightenLess" w="32308" h="21600">
                <a:moveTo>
                  <a:pt x="0" y="0"/>
                </a:moveTo>
                <a:lnTo>
                  <a:pt x="32308" y="0"/>
                </a:lnTo>
                <a:lnTo>
                  <a:pt x="30909" y="1400"/>
                </a:lnTo>
                <a:lnTo>
                  <a:pt x="1400" y="1400"/>
                </a:lnTo>
                <a:close/>
              </a:path>
              <a:path fill="darken" w="32308" h="21600">
                <a:moveTo>
                  <a:pt x="32308" y="0"/>
                </a:moveTo>
                <a:lnTo>
                  <a:pt x="32308" y="21600"/>
                </a:lnTo>
                <a:lnTo>
                  <a:pt x="30909" y="20200"/>
                </a:lnTo>
                <a:lnTo>
                  <a:pt x="30909" y="1400"/>
                </a:lnTo>
                <a:close/>
              </a:path>
              <a:path fill="darkenLess" w="32308" h="21600">
                <a:moveTo>
                  <a:pt x="32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9" y="20200"/>
                </a:lnTo>
                <a:close/>
              </a:path>
              <a:path fill="lighten" w="32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1981080" y="4724280"/>
            <a:ext cx="51642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920" y="1246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143000" y="3048120"/>
          <a:ext cx="5181480" cy="31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8120"/>
                    <a:ext cx="5181480" cy="31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576840" y="2819520"/>
            <a:ext cx="2567160" cy="2403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71920" y="507960"/>
            <a:ext cx="647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在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[0,2*pi]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用红线画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in(x),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用绿圈画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cos(x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71640" y="1011240"/>
            <a:ext cx="457200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=linspace(0,2*pi,3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y=sin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z=cos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plot(x,y,'r',x,z,’g0'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27236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09480" y="304920"/>
            <a:ext cx="2667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Courier New"/>
              </a:rPr>
              <a:t>5</a:t>
            </a:r>
            <a:r>
              <a:rPr b="1" lang="zh-CN" sz="2400" spc="-1" strike="noStrike">
                <a:solidFill>
                  <a:srgbClr val="3333cc"/>
                </a:solidFill>
                <a:latin typeface="Courier New"/>
              </a:rPr>
              <a:t>、缩放图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2160" y="8380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zoom 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129528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鼠标左键，则在当前图形窗口中，以鼠标点中的点为中心的图形放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倍；单击鼠标右键，则缩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6920" y="3505320"/>
            <a:ext cx="5304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=linspace(0,2*pi,3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y=sin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Plot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  <a:ea typeface="宋体"/>
              </a:rPr>
              <a:t>zoom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4920" y="26668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例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缩放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y=sin(x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的图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754600" y="2590920"/>
            <a:ext cx="3389400" cy="4267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9907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zoom 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491640" y="83808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当前图形打开缩放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10760" y="2133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闭缩放模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96080" y="5791320"/>
            <a:ext cx="762120" cy="509400"/>
          </a:xfrm>
          <a:custGeom>
            <a:avLst/>
            <a:gdLst>
              <a:gd name="textAreaLeft" fmla="*/ 32760 w 762120"/>
              <a:gd name="textAreaRight" fmla="*/ 729360 w 76212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32308" h="21600">
                <a:moveTo>
                  <a:pt x="0" y="0"/>
                </a:moveTo>
                <a:lnTo>
                  <a:pt x="32308" y="0"/>
                </a:lnTo>
                <a:lnTo>
                  <a:pt x="32308" y="21600"/>
                </a:lnTo>
                <a:lnTo>
                  <a:pt x="0" y="21600"/>
                </a:lnTo>
                <a:close/>
              </a:path>
              <a:path fill="lightenLess" w="32308" h="21600">
                <a:moveTo>
                  <a:pt x="0" y="0"/>
                </a:moveTo>
                <a:lnTo>
                  <a:pt x="32308" y="0"/>
                </a:lnTo>
                <a:lnTo>
                  <a:pt x="30909" y="1400"/>
                </a:lnTo>
                <a:lnTo>
                  <a:pt x="1400" y="1400"/>
                </a:lnTo>
                <a:close/>
              </a:path>
              <a:path fill="darken" w="32308" h="21600">
                <a:moveTo>
                  <a:pt x="32308" y="0"/>
                </a:moveTo>
                <a:lnTo>
                  <a:pt x="32308" y="21600"/>
                </a:lnTo>
                <a:lnTo>
                  <a:pt x="30909" y="20200"/>
                </a:lnTo>
                <a:lnTo>
                  <a:pt x="30909" y="1400"/>
                </a:lnTo>
                <a:close/>
              </a:path>
              <a:path fill="darkenLess" w="32308" h="21600">
                <a:moveTo>
                  <a:pt x="32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09" y="20200"/>
                </a:lnTo>
                <a:close/>
              </a:path>
              <a:path fill="lighten" w="32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711360" y="45720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6.</a:t>
            </a:r>
            <a:r>
              <a:rPr b="1" lang="zh-CN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Courier New"/>
              </a:rPr>
              <a:t>改变视角</a:t>
            </a:r>
            <a:r>
              <a:rPr b="1" lang="zh-CN" sz="2400" spc="-1" strike="noStrike">
                <a:solidFill>
                  <a:srgbClr val="3333cc"/>
                </a:solidFill>
                <a:latin typeface="Courier New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762120"/>
            <a:ext cx="8534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（</a:t>
            </a: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1</a:t>
            </a: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）</a:t>
            </a: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view(a,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命令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view(a,b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改变视角到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(a,b),a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是方位角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,b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为仰角。缺省视角为（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-37.5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320" y="3886200"/>
            <a:ext cx="967716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解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=-3:0.1:3;   y=1:0.1: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[X,Y]=meshgrid(x,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Z=(X+Y).^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ubplot(2,2,1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mesh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ubplot(2,2,2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mesh(X,Y,Z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view(50,-3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ubplot(2,2,3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mesh(X,Y,Z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view(-60,7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ubplot(2,2,4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mesh(X,Y,Z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view(0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1"/>
          </p:cNvPr>
          <p:cNvSpPr/>
          <p:nvPr/>
        </p:nvSpPr>
        <p:spPr>
          <a:xfrm>
            <a:off x="5820480" y="4114800"/>
            <a:ext cx="1997280" cy="45972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atlab  liti3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3505320"/>
            <a:ext cx="7696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例  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画出曲面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Z=(X+Y).^2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在不同视角的网格图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22096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空间矢量表示的，三个量只关心它们的比例，与数值的大小无关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1, 0, 0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0, 1, 0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轴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0, 0, 1]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90720" y="1905120"/>
            <a:ext cx="94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）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view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[x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z]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1880" y="4800600"/>
            <a:ext cx="762120" cy="509760"/>
          </a:xfrm>
          <a:custGeom>
            <a:avLst/>
            <a:gdLst>
              <a:gd name="textAreaLeft" fmla="*/ 32760 w 762120"/>
              <a:gd name="textAreaRight" fmla="*/ 729360 w 7621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2286" h="21600">
                <a:moveTo>
                  <a:pt x="0" y="0"/>
                </a:moveTo>
                <a:lnTo>
                  <a:pt x="32286" y="0"/>
                </a:lnTo>
                <a:lnTo>
                  <a:pt x="32286" y="21600"/>
                </a:lnTo>
                <a:lnTo>
                  <a:pt x="0" y="21600"/>
                </a:lnTo>
                <a:close/>
              </a:path>
              <a:path fill="lightenLess" w="32286" h="21600">
                <a:moveTo>
                  <a:pt x="0" y="0"/>
                </a:moveTo>
                <a:lnTo>
                  <a:pt x="32286" y="0"/>
                </a:lnTo>
                <a:lnTo>
                  <a:pt x="30886" y="1400"/>
                </a:lnTo>
                <a:lnTo>
                  <a:pt x="1400" y="1400"/>
                </a:lnTo>
                <a:close/>
              </a:path>
              <a:path fill="darken" w="32286" h="21600">
                <a:moveTo>
                  <a:pt x="32286" y="0"/>
                </a:moveTo>
                <a:lnTo>
                  <a:pt x="32286" y="21600"/>
                </a:lnTo>
                <a:lnTo>
                  <a:pt x="30886" y="20200"/>
                </a:lnTo>
                <a:lnTo>
                  <a:pt x="30886" y="1400"/>
                </a:lnTo>
                <a:close/>
              </a:path>
              <a:path fill="darkenLess" w="32286" h="21600">
                <a:moveTo>
                  <a:pt x="32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86" y="20200"/>
                </a:lnTo>
                <a:close/>
              </a:path>
              <a:path fill="lighten" w="32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7775640" cy="62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70880" y="38088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7.</a:t>
            </a:r>
            <a:r>
              <a:rPr b="1" lang="zh-CN" sz="24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Courier New"/>
              </a:rPr>
              <a:t>动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914400"/>
            <a:ext cx="8382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zh-CN" sz="2400" spc="-1" strike="noStrike">
                <a:solidFill>
                  <a:srgbClr val="008000"/>
                </a:solidFill>
                <a:latin typeface="Courier New"/>
              </a:rPr>
              <a:t>Moviein(),getframe,movi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函数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Moviein(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产生一个帧矩阵来存放动画中的帧；函数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getframe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对当前的图象进行快照；函数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movie()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按顺序回放各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10920" y="2514600"/>
            <a:ext cx="2432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例 将曲面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peaks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做成动画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" y="2819520"/>
            <a:ext cx="6477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解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[x,y,z]=peaks(30);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urf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axis([-3 3 -3 3 -10 10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m=moviein(15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i=1: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view(-37.5+24*(i-1),3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m(:,i)=getfr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lang="zh-CN" sz="2400" spc="-1" strike="noStrike">
                <a:solidFill>
                  <a:srgbClr val="0000ff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movie(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358800" y="83808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特殊二、三维图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531960" y="223848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、特殊的二维图形函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07920" y="353376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、特殊的三维图形函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5796000" y="3068640"/>
            <a:ext cx="3149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819880" y="38088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特殊的二维图形函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9640" y="1295280"/>
            <a:ext cx="29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极坐标图：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polar (theta,rho,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02400" y="1828800"/>
            <a:ext cx="249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t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极角（弧度表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h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极半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线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672120" y="3141720"/>
            <a:ext cx="6160320" cy="500040"/>
            <a:chOff x="672120" y="3141720"/>
            <a:chExt cx="6160320" cy="500040"/>
          </a:xfrm>
        </p:grpSpPr>
        <p:sp>
          <p:nvSpPr>
            <p:cNvPr id="282" name=""/>
            <p:cNvSpPr/>
            <p:nvPr/>
          </p:nvSpPr>
          <p:spPr>
            <a:xfrm>
              <a:off x="672120" y="3162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3" name=""/>
                <p:cNvSpPr txBox="1"/>
                <p:nvPr/>
              </p:nvSpPr>
              <p:spPr>
                <a:xfrm>
                  <a:off x="1600200" y="3141720"/>
                  <a:ext cx="523224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2</m:t>
                      </m:r>
                      <m:r>
                        <m:t xml:space="preserve">θ</m:t>
                      </m:r>
                      <m:r>
                        <m:t xml:space="preserve">×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2</m:t>
                      </m:r>
                      <m:r>
                        <m:t xml:space="preserve">θ</m:t>
                      </m:r>
                      <m:r>
                        <m:rPr>
                          <m:lit/>
                          <m:nor/>
                        </m:rPr>
                        <m:t xml:space="preserve">的极坐标图形。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4" name=""/>
          <p:cNvSpPr/>
          <p:nvPr/>
        </p:nvSpPr>
        <p:spPr>
          <a:xfrm>
            <a:off x="600840" y="3605040"/>
            <a:ext cx="656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heta=linspace(0,2*pi),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ho=sin(2*theta).*cos(2*thet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olar(theta,rho,’g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itle(‘Polar plot of sin(2*theta).*cos(2*theta)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858000" y="5032440"/>
            <a:ext cx="228600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8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655164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177200" y="380880"/>
            <a:ext cx="631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散点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  scatte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,Y,S,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向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指定位置显示彩色圈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必须大小相同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8040" y="1905120"/>
            <a:ext cx="238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输入命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oad seam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catter(x,y,5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94480" y="3141720"/>
            <a:ext cx="69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面等值线图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ntour (x,y,z,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绘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等值线的二维等值线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6160" y="4270320"/>
            <a:ext cx="499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输入命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meshgeid(-2:.2:2,-2:.2: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=X.*exp(-X.^2-Y.^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C,h]=contour(X,Y,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abel(C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lormap c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289640" y="4114800"/>
            <a:ext cx="1320840" cy="18162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900720" y="1371600"/>
            <a:ext cx="27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绘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amoun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散点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76360" y="3500280"/>
          <a:ext cx="7740720" cy="6480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6360" y="3500280"/>
                    <a:ext cx="774072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784836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017960" y="522360"/>
            <a:ext cx="101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符号函数（显函数、隐函数、参数方程）画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05408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z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4930920"/>
            <a:ext cx="8915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zplot(‘x(t)’,’y(t)’,[tmin,tmax]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区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min&lt;t&lt;tma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绘制参数方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=x(t),y=y(t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函数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901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zplot(‘f(x)’,[a,b]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&lt;x&lt;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内绘制显函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=f(x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函数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8000" y="2881440"/>
            <a:ext cx="90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zplot(‘f(x,y)’,[xmin,xmax,ymin,ymax]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区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min&lt;x&lt;xma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min&lt;y&lt;yma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绘制隐函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(x,y)=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函数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124640" y="620640"/>
            <a:ext cx="693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平面等值线图：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ontour (x,y,z,n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绘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等值线的二维等值线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0200" y="1749600"/>
            <a:ext cx="4991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输入命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X,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=meshgeid(-2:.2:2,-2:.2: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Z=X.*exp(-X.^2-Y.^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[C,h]=contour(X,Y,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label(C,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olormap c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00040" y="979560"/>
          <a:ext cx="7740720" cy="64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979560"/>
                    <a:ext cx="7740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770436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896200" y="3049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隶书"/>
              </a:rPr>
              <a:t>特殊的三维图形函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843920" y="914400"/>
            <a:ext cx="29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空间等值线图： </a:t>
            </a:r>
            <a:r>
              <a:rPr b="1" lang="zh-CN" sz="2400" spc="-1" strike="noStrike">
                <a:solidFill>
                  <a:srgbClr val="008000"/>
                </a:solidFill>
                <a:latin typeface="Times New Roman"/>
              </a:rPr>
              <a:t>contour 3(x,y,z,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54240" y="1459080"/>
            <a:ext cx="16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其中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等值线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09320" y="213372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山峰的三维和二维等值线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-685800" y="28195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解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[x,y,z]=peak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ubplot(1,2,1)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contour3(x,y,z,16,</a:t>
            </a:r>
            <a:r>
              <a:rPr b="0" lang="zh-CN" sz="2400" spc="-1" strike="noStrike">
                <a:solidFill>
                  <a:srgbClr val="b22222"/>
                </a:solidFill>
                <a:latin typeface="Courier New"/>
              </a:rPr>
              <a:t>'s'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)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grid,   xlabel(</a:t>
            </a:r>
            <a:r>
              <a:rPr b="0" lang="zh-CN" sz="2400" spc="-1" strike="noStrike">
                <a:solidFill>
                  <a:srgbClr val="b22222"/>
                </a:solidFill>
                <a:latin typeface="Courier New"/>
              </a:rPr>
              <a:t>'x-axis'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),ylabel(</a:t>
            </a:r>
            <a:r>
              <a:rPr b="0" lang="zh-CN" sz="2400" spc="-1" strike="noStrike">
                <a:solidFill>
                  <a:srgbClr val="b22222"/>
                </a:solidFill>
                <a:latin typeface="Courier New"/>
              </a:rPr>
              <a:t>'y-axis'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zlabel(</a:t>
            </a:r>
            <a:r>
              <a:rPr b="0" lang="zh-CN" sz="2400" spc="-1" strike="noStrike">
                <a:solidFill>
                  <a:srgbClr val="b22222"/>
                </a:solidFill>
                <a:latin typeface="Courier New"/>
              </a:rPr>
              <a:t>'z-axis'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0" lang="zh-CN" sz="2400" spc="-1" strike="noStrike">
                <a:solidFill>
                  <a:srgbClr val="b22222"/>
                </a:solidFill>
                <a:latin typeface="Courier New"/>
              </a:rPr>
              <a:t>'contour3 of peaks'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ubplot(1,2,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contour(x,y,z,16,</a:t>
            </a:r>
            <a:r>
              <a:rPr b="0" lang="zh-CN" sz="2400" spc="-1" strike="noStrike">
                <a:solidFill>
                  <a:srgbClr val="b22222"/>
                </a:solidFill>
                <a:latin typeface="Courier New"/>
              </a:rPr>
              <a:t>'s'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grid,  xlabel(</a:t>
            </a:r>
            <a:r>
              <a:rPr b="0" lang="zh-CN" sz="2400" spc="-1" strike="noStrike">
                <a:solidFill>
                  <a:srgbClr val="b22222"/>
                </a:solidFill>
                <a:latin typeface="Courier New"/>
              </a:rPr>
              <a:t>'x-axis'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), ylabel(</a:t>
            </a:r>
            <a:r>
              <a:rPr b="0" lang="zh-CN" sz="2400" spc="-1" strike="noStrike">
                <a:solidFill>
                  <a:srgbClr val="b22222"/>
                </a:solidFill>
                <a:latin typeface="Courier New"/>
              </a:rPr>
              <a:t>'y-axis'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title(</a:t>
            </a:r>
            <a:r>
              <a:rPr b="0" lang="zh-CN" sz="2400" spc="-1" strike="noStrike">
                <a:solidFill>
                  <a:srgbClr val="b22222"/>
                </a:solidFill>
                <a:latin typeface="Courier New"/>
              </a:rPr>
              <a:t>'contour of peaks'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7010280" y="380880"/>
            <a:ext cx="159876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777708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896760" y="441360"/>
            <a:ext cx="530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三维散点图 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scatter3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X,Y,Z,S,C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在向量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,Y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指定的位置上显示彩色圆圈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向量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,Y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的大小必须相同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241308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解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输入命令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[x,y,z]=sphere(16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X=[x(:)*.5 x(:)*.75 x(:)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Y=[y(:)*.5 y(:)*.75 y(:)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Z=[z(:)*.5 z(:)*.75 z(:)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=repmat([1 .75 .5]*10,prod(size(x)),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C=repmat([1 2 3],prod(size(x)),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scatter3(X(:),Y(:),Z(:),S(:),C(:),'filled'),view(-60,6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59400" y="1650960"/>
            <a:ext cx="198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  绘制三维散点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775280" cy="59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743200" y="304920"/>
            <a:ext cx="2971800" cy="52056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绘制山区地貌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480" y="990720"/>
            <a:ext cx="7985160" cy="198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魏碑"/>
                <a:ea typeface="魏碑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魏碑"/>
                <a:ea typeface="魏碑"/>
              </a:rPr>
              <a:t>要在某山区方圆大约</a:t>
            </a:r>
            <a:r>
              <a:rPr b="0" lang="zh-CN" sz="2400" spc="-1" strike="noStrike">
                <a:solidFill>
                  <a:srgbClr val="000000"/>
                </a:solidFill>
                <a:latin typeface="魏碑"/>
                <a:ea typeface="魏碑"/>
              </a:rPr>
              <a:t>27</a:t>
            </a:r>
            <a:r>
              <a:rPr b="0" lang="zh-CN" sz="2400" spc="-1" strike="noStrike">
                <a:solidFill>
                  <a:srgbClr val="000000"/>
                </a:solidFill>
                <a:latin typeface="魏碑"/>
                <a:ea typeface="魏碑"/>
              </a:rPr>
              <a:t>平方公里范围内修建一条公路，从山脚出发经过一个居民区，再到达一个矿区。横向纵向分别每隔</a:t>
            </a:r>
            <a:r>
              <a:rPr b="0" lang="zh-CN" sz="2400" spc="-1" strike="noStrike">
                <a:solidFill>
                  <a:srgbClr val="000000"/>
                </a:solidFill>
                <a:latin typeface="魏碑"/>
                <a:ea typeface="魏碑"/>
              </a:rPr>
              <a:t>400</a:t>
            </a:r>
            <a:r>
              <a:rPr b="0" lang="zh-CN" sz="2400" spc="-1" strike="noStrike">
                <a:solidFill>
                  <a:srgbClr val="000000"/>
                </a:solidFill>
                <a:latin typeface="魏碑"/>
                <a:ea typeface="魏碑"/>
              </a:rPr>
              <a:t>米测量一次，得到一些地点的高程：</a:t>
            </a:r>
            <a:r>
              <a:rPr b="0" lang="zh-CN" sz="2400" spc="-1" strike="noStrike">
                <a:solidFill>
                  <a:srgbClr val="000000"/>
                </a:solidFill>
                <a:latin typeface="魏碑"/>
                <a:ea typeface="魏碑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魏碑"/>
                <a:ea typeface="魏碑"/>
              </a:rPr>
              <a:t>平面区域</a:t>
            </a:r>
            <a:r>
              <a:rPr b="0" lang="zh-CN" sz="2400" spc="-1" strike="noStrike">
                <a:solidFill>
                  <a:srgbClr val="000000"/>
                </a:solidFill>
                <a:latin typeface="魏碑"/>
                <a:ea typeface="魏碑"/>
              </a:rPr>
              <a:t>0&lt;=x&lt;=5600,0&lt;=y&lt;=4800)</a:t>
            </a:r>
            <a:r>
              <a:rPr b="0" lang="zh-CN" sz="2400" spc="-1" strike="noStrike">
                <a:solidFill>
                  <a:srgbClr val="000000"/>
                </a:solidFill>
                <a:latin typeface="魏碑"/>
                <a:ea typeface="魏碑"/>
              </a:rPr>
              <a:t>，需作出该山区的地貌图和等高线图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09480" y="3517920"/>
          <a:ext cx="7991640" cy="334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517920"/>
                    <a:ext cx="799164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">
            <a:hlinkClick r:id="rId3" action="ppaction://hlinksldjump"/>
          </p:cNvPr>
          <p:cNvSpPr/>
          <p:nvPr/>
        </p:nvSpPr>
        <p:spPr>
          <a:xfrm>
            <a:off x="8381880" y="6348240"/>
            <a:ext cx="762120" cy="509760"/>
          </a:xfrm>
          <a:custGeom>
            <a:avLst/>
            <a:gdLst>
              <a:gd name="textAreaLeft" fmla="*/ 32760 w 762120"/>
              <a:gd name="textAreaRight" fmla="*/ 729360 w 7621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32286" h="21600">
                <a:moveTo>
                  <a:pt x="0" y="0"/>
                </a:moveTo>
                <a:lnTo>
                  <a:pt x="32286" y="0"/>
                </a:lnTo>
                <a:lnTo>
                  <a:pt x="32286" y="21600"/>
                </a:lnTo>
                <a:lnTo>
                  <a:pt x="0" y="21600"/>
                </a:lnTo>
                <a:close/>
              </a:path>
              <a:path fill="lightenLess" w="32286" h="21600">
                <a:moveTo>
                  <a:pt x="0" y="0"/>
                </a:moveTo>
                <a:lnTo>
                  <a:pt x="32286" y="0"/>
                </a:lnTo>
                <a:lnTo>
                  <a:pt x="30886" y="1400"/>
                </a:lnTo>
                <a:lnTo>
                  <a:pt x="1400" y="1400"/>
                </a:lnTo>
                <a:close/>
              </a:path>
              <a:path fill="darken" w="32286" h="21600">
                <a:moveTo>
                  <a:pt x="32286" y="0"/>
                </a:moveTo>
                <a:lnTo>
                  <a:pt x="32286" y="21600"/>
                </a:lnTo>
                <a:lnTo>
                  <a:pt x="30886" y="20200"/>
                </a:lnTo>
                <a:lnTo>
                  <a:pt x="30886" y="1400"/>
                </a:lnTo>
                <a:close/>
              </a:path>
              <a:path fill="darkenLess" w="32286" h="21600">
                <a:moveTo>
                  <a:pt x="32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886" y="20200"/>
                </a:lnTo>
                <a:close/>
              </a:path>
              <a:path fill="lighten" w="32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x=0:400:56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y=0:400:480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z=[370 470 550 600 670 690 670 620 580 450 400 300 100 150 250;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510 620 730 800 850 870 850 780 720 650 500 200 300 350 320;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650 760 880 970 1020 1050 1020 830 900 700 300 500 550 480 350;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740 880 1080 1130 1250 1280 1230 1040 900 500 700 780 750 650 550;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830 980 1180 1320 1450 1420 1400 1300 700 900 850 840 380 780 750;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880 1060 1230 1390 1500 1500 1400 900 1100 1060 950 870 900 930 950;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910 1090 1270 1500 1200 1100 1350 1450 1200 1150 1010 880 1000 1050 1100;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950 1190 1370 1500 1200 1100 1550 1600 1550 1380 1070 900 1050 1150 1200;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430 1430 1460 1500 1550 1600 1550 1600 1600 1600 1550 1500 1500 1550 1550;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420 1430 1450 1480 1500 1550 1510 1430 1300 1200 980 850 750 550 500;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380 1410 1430 1450 1470 1320 1280 1200 1080 940 780 620 460 370 350;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370 1390 1410 1430 1440 1140 1110 1050 950 820 690 540 380 300 210;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1350 1370 1390 1400 1410 960 940 880 800 690 570 430 290 210 15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meshz(x,y,z),rotate3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xlabel('X'),ylabel('Y'),zlabel('Z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a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figure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contour(x,y,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pau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figure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contour3(x,y,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4897440" cy="352116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0" y="3387600"/>
            <a:ext cx="4500720" cy="34704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4680000" y="3413160"/>
            <a:ext cx="44640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3308760" y="-27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幼圆"/>
              </a:rPr>
              <a:t>实验作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35560" y="836640"/>
            <a:ext cx="59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lo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plo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绘制函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=cos(tan(πx)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图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49440" y="2205000"/>
            <a:ext cx="65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zplo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绘制摆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=a(t-sint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=a(1-cost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∈[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π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上图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8320" y="1557360"/>
            <a:ext cx="707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zplot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绘制函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-sin(x+y)=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-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上图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95520" y="3357720"/>
            <a:ext cx="49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ur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mes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绘制曲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z=2x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+y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93600" y="4149720"/>
            <a:ext cx="474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olar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绘阿基米德螺线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叶玫瑰线                     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788000" y="4221000"/>
                <a:ext cx="1117440" cy="4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4125960" y="4653000"/>
                <a:ext cx="188604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3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97120" y="219240"/>
            <a:ext cx="434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0,pi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上画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=cos(x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图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93996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输入命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zplot(‘sin(x)’,[0,pi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5545440" cy="44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7696080" cy="327672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2209680" y="380880"/>
            <a:ext cx="3811680" cy="297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幼圆"/>
              </a:rPr>
              <a:t>谢谢光临！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40000" y="1395360"/>
            <a:ext cx="559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输入命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zplot(‘cos(t)^3’,’sin(t)^3’,[0, 2*pi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0" y="404640"/>
          <a:ext cx="13639680" cy="66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4640"/>
                    <a:ext cx="13639680" cy="6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547640" y="2421000"/>
            <a:ext cx="525636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333360"/>
          <a:ext cx="12725280" cy="61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1272528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518040" y="1171440"/>
            <a:ext cx="5423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输入命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zplot('exp(x)+sin(x*y)',[-2,0.5,0,2]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71640" y="2276640"/>
            <a:ext cx="6121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ccccff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1811160"/>
            <a:ext cx="81536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909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p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071880"/>
            <a:ext cx="91440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注意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[1]fun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必须是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文件的函数名或是独立变量为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的字符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[2]fplot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函数不能画参数方程和隐函数图形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   但在一个图上可以画多个图形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5440" y="1695600"/>
            <a:ext cx="734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fplot(‘fun’,lims)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绘制字符串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fun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指定的函数在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lims=[xmin,xmax]</a:t>
            </a:r>
            <a:r>
              <a:rPr b="0" lang="zh-CN" sz="2800" spc="-1" strike="noStrike">
                <a:solidFill>
                  <a:srgbClr val="000000"/>
                </a:solidFill>
                <a:latin typeface="Courier New"/>
              </a:rPr>
              <a:t>图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6T12:53:58Z</dcterms:created>
  <dc:creator> </dc:creator>
  <dc:description/>
  <dc:language>en-US</dc:language>
  <cp:lastModifiedBy>User</cp:lastModifiedBy>
  <dcterms:modified xsi:type="dcterms:W3CDTF">2012-06-23T12:26:26Z</dcterms:modified>
  <cp:revision>339</cp:revision>
  <dc:subject/>
  <dc:title>四、作     图</dc:title>
</cp:coreProperties>
</file>