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D4C1-EE57-4D6B-B514-6C3DF6B80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41A5-EE30-4E39-B6C1-524A5875D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0EDE-EB9C-4B0E-AA73-12932C706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5322-387B-42AA-90AA-B51D0495C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72A4-7342-4C7A-8226-344F55D8D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7B75-0126-4ECB-9D0C-A3E014D6B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1CAE-2B48-4115-A768-07D464CB7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5E0AC-8F91-48A1-8F88-3E4233696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AB5D-A40C-4CA6-8237-8935C5D3E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61FB-6ACC-4B9C-9C81-39B7BE20F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3B89-85E9-4574-A807-EA84DDEE3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96916-F60A-427F-B076-C5C5C6473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DFC2-FAB8-4D37-A9DC-AE9BB1EA25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6455-2945-4D82-9213-77FEE3BD9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C26D-C954-409E-AD78-09070F04D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6DCC9-A224-46C4-8A9A-9D4D3F98E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3D2C3-951D-485C-82FA-9DA99373F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CAEB-8B14-40C4-9C40-747B96276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9651-7BAC-45CB-BA6E-DC5788989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1C12-77DC-4224-9E41-73C64580A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7DCA-871C-4736-A828-10B8DDC47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7ED86-0B43-4148-A24D-CFFD80AEC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C7FB-3B24-4DF4-ACE3-D135B7067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4275-D490-4C14-B072-411A24FA0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D23B-B329-4C2C-84FF-0A1A4CB52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9F86-261B-4766-AF98-13AC13A12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B9FD-E1D7-409D-98C5-96C5388B7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1C5FF-715A-4D4F-8F92-4EA814A527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536B-CAF0-4176-B3AC-951936687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DA2-B9D6-40F8-9CAF-D50AF0C8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BB1-FEA6-4790-8ED6-BF7D6C1C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53BF-9EDA-4889-8DF1-81732C8F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5785-D7A0-4733-A6A0-13B46444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8D1-386F-4989-BA81-41EF2511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7F8E-37F7-4433-A2D7-612077B4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FFC5-A599-4D43-9771-6AC36463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FD43-2DD8-489F-BF22-01D44FFB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101C-4505-4894-948C-AA003ABD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6AB-0E2E-40BF-B651-B3EBA56E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16EE-05A8-40BD-AC4A-0FB952CA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B4AD8-F1DD-4A2D-AAA2-DCEBF541C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&#25968;&#23398;&#32508;&#21512;&#35757;&#32451;/Lecture%201/&#31532;1&#35762;%20matlab&#20837;&#38376;/shuzu1.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&#25968;&#23398;&#32508;&#21512;&#35757;&#32451;/Lecture%201/&#31532;1&#35762;%20matlab&#20837;&#38376;/shuzu2.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&#25968;&#23398;&#32508;&#21512;&#35757;&#32451;/Lecture%201/&#31532;1&#35762;%20matlab&#20837;&#38376;/shuzu3.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&#25968;&#23398;&#32508;&#21512;&#35757;&#32451;/Lecture%201/&#31532;1&#35762;%20matlab&#20837;&#38376;/shuzu4.m" TargetMode="Externa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&#25968;&#23398;&#32508;&#21512;&#35757;&#32451;/Lecture%201/&#31532;1&#35762;%20matlab&#20837;&#38376;/matrix1.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../&#25968;&#23398;&#32508;&#21512;&#35757;&#32451;/Lecture%201/&#31532;1&#35762;%20matlab&#20837;&#38376;/matrix2.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../&#25968;&#23398;&#32508;&#21512;&#35757;&#32451;/Lecture%201/&#31532;1&#35762;%20matlab&#20837;&#38376;/matrix3.m" TargetMode="Externa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../&#25968;&#23398;&#32508;&#21512;&#35757;&#32451;/Lecture%201/&#31532;1&#35762;%20matlab&#20837;&#38376;/for1.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0.xml"/><Relationship Id="rId3" Type="http://schemas.openxmlformats.org/officeDocument/2006/relationships/slide" Target="slide15.xml"/><Relationship Id="rId4" Type="http://schemas.openxmlformats.org/officeDocument/2006/relationships/slide" Target="slide19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26.xm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&#25968;&#23398;&#32508;&#21512;&#35757;&#32451;/Lecture%201/&#31532;1&#35762;%20matlab&#20837;&#38376;/fun.m" TargetMode="Externa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752480" y="1219320"/>
            <a:ext cx="662940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学综合训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2057400" y="327672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入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" descr="COMP5"/>
          <p:cNvPicPr/>
          <p:nvPr/>
        </p:nvPicPr>
        <p:blipFill>
          <a:blip r:embed="rId1"/>
          <a:stretch/>
        </p:blipFill>
        <p:spPr>
          <a:xfrm>
            <a:off x="0" y="4114800"/>
            <a:ext cx="30481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24000" y="5516640"/>
            <a:ext cx="9055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=logspace(first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ast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从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，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束，有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的对数分隔行向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590920" y="6094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创建简单的数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971800" y="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数       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6516720" y="0"/>
            <a:ext cx="2627280" cy="459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MATLAB(shuzu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395280" y="105264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=[a  b  c  d  e  f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包含指定元素的行向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457200" y="1600200"/>
            <a:ext cx="83059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=first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从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，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数，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束的行向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457200" y="2590920"/>
            <a:ext cx="79246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=first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crement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a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从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，加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cremen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计数，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束的行向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533520" y="4149720"/>
            <a:ext cx="861048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x=linspace(first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ast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创建从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ir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，到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a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束，有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元素的行向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228600"/>
            <a:ext cx="9144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组元素的访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516720" y="5334120"/>
            <a:ext cx="26272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MATLAB(shuzu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0" y="3429000"/>
            <a:ext cx="838188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直接使用元素编址序号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([a  b  c  d]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提取数组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元素构成一个新的数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x(a) x(b) x(c) x(d)]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0" y="1828800"/>
            <a:ext cx="9144000" cy="17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访问一块元素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(a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访问数组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元素开始，以步长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到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元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但不超过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可以为负数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缺省时为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0" y="1066680"/>
            <a:ext cx="914400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访问一个元素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(i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表示访问数组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个元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0"/>
            <a:ext cx="9220320" cy="18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数组的方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前面例子中的数组都是一行数列，是行方向分布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称之为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行向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组也可以是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列向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它的数组操作和运算与行向量是一样的，唯一的区别是结果以列形式显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0" y="2514600"/>
            <a:ext cx="8763120" cy="35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列向量有两种方法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接产生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=[1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置产生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=[1 2 3 4]; c=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说明：以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空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逗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隔的元素指定的是不同列的元素，而以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隔的元素指定了不同行的元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2666880" y="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组的运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4920" y="6858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）标量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数组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组对标量的加、减、乘、除和平方运算，是指数组的每个元素对该标量施加相应的加、减、乘、除、平方运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619280" y="2060640"/>
            <a:ext cx="614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：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=[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…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, 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57200" y="2819520"/>
            <a:ext cx="8381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：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+c=[a1+c,a2+c,…,an+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*c=[a1*c,a2*c,…,an*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/c= [a1/c,a2/c,…,an/c](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右除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\c= [c/a1,c/a2,…,c/an] (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左除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^c= [a1^c,a2^c,…,an^c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.^a= [c^a1,c^a2,…,c^an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443640" y="5334120"/>
            <a:ext cx="270036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MATLAB(shuzu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026"/>
          <p:cNvSpPr/>
          <p:nvPr/>
        </p:nvSpPr>
        <p:spPr>
          <a:xfrm>
            <a:off x="304920" y="457200"/>
            <a:ext cx="8305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）数组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宋体"/>
              </a:rPr>
              <a:t>数组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两个数组有相同维数时，加、减、乘、除、幂运算可按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元素对元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式进行，不同大小或维数的数组是不能进行运算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027"/>
          <p:cNvSpPr/>
          <p:nvPr/>
        </p:nvSpPr>
        <p:spPr>
          <a:xfrm>
            <a:off x="1274760" y="2309760"/>
            <a:ext cx="5648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设：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=[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…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, b=[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…,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28"/>
          <p:cNvSpPr/>
          <p:nvPr/>
        </p:nvSpPr>
        <p:spPr>
          <a:xfrm>
            <a:off x="533520" y="2743200"/>
            <a:ext cx="7543800" cy="40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：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+b= [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…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+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*b= [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…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*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/b= [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…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\b=[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…,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/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.^b=[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^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^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…,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^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29"/>
          <p:cNvSpPr/>
          <p:nvPr/>
        </p:nvSpPr>
        <p:spPr>
          <a:xfrm>
            <a:off x="6516720" y="4343400"/>
            <a:ext cx="262728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MATLAB(shuzu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1"/>
          <p:cNvSpPr/>
          <p:nvPr/>
        </p:nvSpPr>
        <p:spPr>
          <a:xfrm>
            <a:off x="8077320" y="6095880"/>
            <a:ext cx="1066680" cy="510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2666880" y="457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 矩      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0" y="1752480"/>
            <a:ext cx="9144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逗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空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于分隔某一行的元素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分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于区分不同的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除了分号，在输入矩阵时，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nte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键也表示开始新一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输入矩阵时，严格要求所有行有相同的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=[1 2 3 4 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5 6 7 8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9 10 11 12]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=[1 1 1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 2 2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3 3 3 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2895480" y="114300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矩阵的建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80880" y="609480"/>
            <a:ext cx="8763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特殊矩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建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372360" y="5562720"/>
            <a:ext cx="2771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MATLAB(matrix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50920" y="4797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=eye(m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一个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的单位矩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557360"/>
            <a:ext cx="9144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=ones(m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一个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的元素全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矩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50920" y="2852640"/>
            <a:ext cx="91440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b=zeros(m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一个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行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列的零矩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3500280"/>
            <a:ext cx="914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=[  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一个空矩阵，当对一项操作无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果时，返回空矩阵，空</a:t>
            </a:r>
            <a:r>
              <a:rPr b="1" lang="zh-CN" sz="2800" spc="-1" strike="noStrike">
                <a:solidFill>
                  <a:srgbClr val="000000"/>
                </a:solidFill>
                <a:latin typeface="Courier New"/>
              </a:rPr>
              <a:t>矩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大小为零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133720" y="4572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中元素的操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6084720" y="6093000"/>
            <a:ext cx="30592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MATLAB(matrix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0" y="12193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矩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行：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0" y="162864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矩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第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列：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（：，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0" y="234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）取矩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的第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1~i2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行、第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1~j2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列构成新矩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A(i1:i2, j1:j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0" y="306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）以逆序提取矩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的第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1~i2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行，构成新矩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A(i2:-1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1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0" y="378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）以逆序提取矩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的第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1~j2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列，构成新矩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A(:,j2:-1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1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0" y="458136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）删除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的第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1~i2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行，构成新矩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A(i1:i2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，：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0" y="5084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）删除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的第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1~j2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列，构成新矩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:A(:,j1:j2)=[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8"/>
          <p:cNvSpPr/>
          <p:nvPr/>
        </p:nvSpPr>
        <p:spPr>
          <a:xfrm>
            <a:off x="0" y="55627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）将矩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拼接成新矩阵：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  B]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9"/>
          <p:cNvSpPr/>
          <p:nvPr/>
        </p:nvSpPr>
        <p:spPr>
          <a:xfrm>
            <a:off x="0" y="198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）依次提取矩阵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的每一列，将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拉伸为一个列向量：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Courier New"/>
              </a:rPr>
              <a:t>（：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1523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）矩阵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矩阵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        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[1]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元素对元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运算，同数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组运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666880" y="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矩阵的运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6094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）标量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矩阵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标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组运算相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6227640" y="4419720"/>
            <a:ext cx="29163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MATLAB(matrix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685800" y="266688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[2]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矩阵运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矩阵加法：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+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矩阵乘法：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*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阵的行列式：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t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阵的逆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v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方阵的特征值与特征向量：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[V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]=eig(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8077320" y="6095880"/>
            <a:ext cx="1066680" cy="510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3048120" y="38088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关系与逻辑运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066680" y="1143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关系操作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0"/>
          <p:cNvGraphicFramePr/>
          <p:nvPr/>
        </p:nvGraphicFramePr>
        <p:xfrm>
          <a:off x="-1066680" y="1865160"/>
          <a:ext cx="15773400" cy="465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66680" y="1865160"/>
                    <a:ext cx="1577340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838080" y="304920"/>
            <a:ext cx="7772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buClr>
                <a:srgbClr val="000000"/>
              </a:buClr>
              <a:buFont typeface="Web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为线性系统的一种分析和仿真工具，是理工科大学生应该掌握的技术工具，它作为一种编程语言和可视化工具，可解决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工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科学计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数学学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许多问题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762120" y="259092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建立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向量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数组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矩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基础上，使用方便，人机界面直观，输出结果可视化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838080" y="40384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矩阵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核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914400" y="5181480"/>
            <a:ext cx="72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ebdings"/>
                <a:ea typeface="Webdings"/>
              </a:rPr>
              <a:t>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的进入与运行方式（两种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2514600" y="6858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逻辑运算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0" y="1916280"/>
          <a:ext cx="12390480" cy="226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16280"/>
                    <a:ext cx="1239048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2286000"/>
            <a:ext cx="9144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循环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允许一组命令以固定的和预定的次数重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  <a:ea typeface="宋体"/>
              </a:rPr>
              <a:t>for  x=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{command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句之间的命令串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commands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数组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rray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的每一列执行一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每一次迭代中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被指定为数组的下一列，即在第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次循环中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=array(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：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3276720" y="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控制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762120" y="609480"/>
            <a:ext cx="8381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供三种决策或控制流结构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for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循环、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while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循环、</a:t>
            </a:r>
            <a:r>
              <a:rPr b="1" lang="en-US" sz="2400" spc="-1" strike="noStrike">
                <a:solidFill>
                  <a:srgbClr val="0000cc"/>
                </a:solidFill>
                <a:latin typeface="Courier New"/>
              </a:rPr>
              <a:t>if-else-end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结构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些结构经常包含大量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令，故经常出现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程序中，而不是直接加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提示符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380880" y="5029200"/>
            <a:ext cx="8229600" cy="711000"/>
            <a:chOff x="380880" y="5029200"/>
            <a:chExt cx="8229600" cy="711000"/>
          </a:xfrm>
        </p:grpSpPr>
        <p:sp>
          <p:nvSpPr>
            <p:cNvPr id="146" name="Text Box 8"/>
            <p:cNvSpPr/>
            <p:nvPr/>
          </p:nvSpPr>
          <p:spPr>
            <a:xfrm>
              <a:off x="380880" y="5105160"/>
              <a:ext cx="822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例  对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=1,2,…,10,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       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值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7" name="Object 0"/>
                <p:cNvSpPr txBox="1"/>
                <p:nvPr/>
              </p:nvSpPr>
              <p:spPr>
                <a:xfrm>
                  <a:off x="3809880" y="5029200"/>
                  <a:ext cx="943200" cy="71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sin</m:t>
                      </m:r>
                      <m:f>
                        <m:num>
                          <m:r>
                            <m:t xml:space="preserve">n</m:t>
                          </m:r>
                          <m:r>
                            <m:t xml:space="preserve">⋅</m:t>
                          </m:r>
                          <m:r>
                            <m:t xml:space="preserve">π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48" name="Text Box 11"/>
          <p:cNvSpPr/>
          <p:nvPr/>
        </p:nvSpPr>
        <p:spPr>
          <a:xfrm>
            <a:off x="6443640" y="5791320"/>
            <a:ext cx="23954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MATLAB(for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1981080"/>
            <a:ext cx="9144000" cy="23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  <a:ea typeface="宋体"/>
              </a:rPr>
              <a:t>while  (expre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 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{commands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            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要在表达式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expression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里的所有元素为真，就执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语句之间的命令串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commands}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0" y="457200"/>
            <a:ext cx="914400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循环以固定次数求一组命令相反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循环以不定的次数求一组语句的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156360" y="5486400"/>
            <a:ext cx="298764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(while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57200" y="4572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  设银行年利率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.25%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元钱存入银行，问多长时间会连本带利翻一番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457200" y="228600"/>
            <a:ext cx="83818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-else-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有一个选择的一般形式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if  (expre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 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{commands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                 </a:t>
            </a:r>
            <a:r>
              <a:rPr b="1" lang="en-US" sz="2800" spc="-1" strike="noStrike">
                <a:solidFill>
                  <a:srgbClr val="0000cc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在表达式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(expression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里的所有元素为真，就执行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句之间的命令串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{commands}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6300720" y="5486400"/>
            <a:ext cx="23860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(fun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Object 0"/>
          <p:cNvGraphicFramePr/>
          <p:nvPr/>
        </p:nvGraphicFramePr>
        <p:xfrm>
          <a:off x="574560" y="3886200"/>
          <a:ext cx="5896080" cy="105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560" y="3886200"/>
                    <a:ext cx="5896080" cy="105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7"/>
          <p:cNvSpPr/>
          <p:nvPr/>
        </p:nvSpPr>
        <p:spPr>
          <a:xfrm>
            <a:off x="304920" y="4952880"/>
            <a:ext cx="84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令窗口输入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n1(2),fun1(-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1050840" y="406440"/>
            <a:ext cx="7255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三个或更多的选择的一般形式是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 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ression1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commands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 if 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ression2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commands2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if  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ression3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commands3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if  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commands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Object 2"/>
          <p:cNvGraphicFramePr/>
          <p:nvPr/>
        </p:nvGraphicFramePr>
        <p:xfrm>
          <a:off x="546120" y="533520"/>
          <a:ext cx="8236080" cy="16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533520"/>
                    <a:ext cx="8236080" cy="16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Text Box 3"/>
          <p:cNvSpPr/>
          <p:nvPr/>
        </p:nvSpPr>
        <p:spPr>
          <a:xfrm>
            <a:off x="533520" y="266688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建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n2.m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定义函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（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Courier New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再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令窗口输入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n2(2),fun2(0.5), fun2(-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即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553080" y="4191120"/>
            <a:ext cx="236232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(fun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8077320" y="6095880"/>
            <a:ext cx="10666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6"/>
          <p:cNvSpPr/>
          <p:nvPr/>
        </p:nvSpPr>
        <p:spPr>
          <a:xfrm>
            <a:off x="1219320" y="838080"/>
            <a:ext cx="70866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以下问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起泡法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数由小到大排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即将相邻两个数比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将小的调到前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一个         矩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程求出其最大值及其所处的位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编程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球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高度自由落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每次落地后反跳回原高度的一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再落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求它在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落地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经过多少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次反弹有多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一函数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一程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入自变量的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输出函数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缺省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即只有一个输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再次编写程序。注意，利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rg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99"/>
              <p:cNvSpPr txBox="1"/>
              <p:nvPr/>
            </p:nvSpPr>
            <p:spPr>
              <a:xfrm>
                <a:off x="2590920" y="2362320"/>
                <a:ext cx="63324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00"/>
              <p:cNvSpPr txBox="1"/>
              <p:nvPr/>
            </p:nvSpPr>
            <p:spPr>
              <a:xfrm>
                <a:off x="2627280" y="2997360"/>
                <a:ext cx="6620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  <m:e>
                        <m:r>
                          <m:t xml:space="preserve">n</m:t>
                        </m:r>
                        <m:r>
                          <m:t xml:space="preserve">!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01"/>
              <p:cNvSpPr txBox="1"/>
              <p:nvPr/>
            </p:nvSpPr>
            <p:spPr>
              <a:xfrm>
                <a:off x="2916360" y="5013360"/>
                <a:ext cx="3124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Text Box 102"/>
          <p:cNvSpPr/>
          <p:nvPr/>
        </p:nvSpPr>
        <p:spPr>
          <a:xfrm>
            <a:off x="2895480" y="3049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实验作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04"/>
          <p:cNvSpPr/>
          <p:nvPr/>
        </p:nvSpPr>
        <p:spPr>
          <a:xfrm>
            <a:off x="8077320" y="6095880"/>
            <a:ext cx="10666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2514600" y="91440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谢   谢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Object 4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51980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447920" y="380880"/>
            <a:ext cx="541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入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2209680" y="1371600"/>
            <a:ext cx="5715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hlinkClick r:id="rId1" action="ppaction://hlinksldjump"/>
              </a:rPr>
              <a:t>一、变  量  与  函  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209680" y="2286000"/>
            <a:ext cx="31244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二、数       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286000" y="3276720"/>
            <a:ext cx="3276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hlinkClick r:id="rId3" action="ppaction://hlinksldjump"/>
              </a:rPr>
              <a:t>三、 矩      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286000" y="4191120"/>
            <a:ext cx="5181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hlinkClick r:id="rId4" action="ppaction://hlinksldjump"/>
              </a:rPr>
              <a:t>四、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  <a:hlinkClick r:id="rId5" action="ppaction://hlinksldjump"/>
              </a:rPr>
              <a:t>MATLAB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hlinkClick r:id="rId6" action="ppaction://hlinksldjump"/>
              </a:rPr>
              <a:t>编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286000" y="5181480"/>
            <a:ext cx="40384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Times New Roman"/>
                <a:hlinkClick r:id="rId7" action="ppaction://hlinksldjump"/>
              </a:rPr>
              <a:t>五、 实 验 作 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457200" y="1066680"/>
            <a:ext cx="8229600" cy="55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变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变量的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命名规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变量名必须是不含空格的单个词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变量名区分大小写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变量名最多不超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字符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变量名必须以字母打头，之后可以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任意字母、数字或下划线，变量名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允许使用标点符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057400" y="2728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变  量  与  函  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533520" y="1282680"/>
          <a:ext cx="7759440" cy="5054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82680"/>
                    <a:ext cx="7759440" cy="505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3"/>
          <p:cNvSpPr/>
          <p:nvPr/>
        </p:nvSpPr>
        <p:spPr>
          <a:xfrm>
            <a:off x="2971800" y="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特殊变量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1752480" y="18252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数学运算符号及标点符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3"/>
          <p:cNvGraphicFramePr/>
          <p:nvPr/>
        </p:nvGraphicFramePr>
        <p:xfrm>
          <a:off x="642960" y="762120"/>
          <a:ext cx="7904160" cy="419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62120"/>
                    <a:ext cx="7904160" cy="41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4"/>
          <p:cNvSpPr/>
          <p:nvPr/>
        </p:nvSpPr>
        <p:spPr>
          <a:xfrm>
            <a:off x="304920" y="4937040"/>
            <a:ext cx="8534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每条命令后，若为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逗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无标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符号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则显示命令的结果；若命令后为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分号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禁止显示结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后面所有文字为注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示续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-231840" y="1441440"/>
          <a:ext cx="926784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31840" y="1441440"/>
                    <a:ext cx="926784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3"/>
          <p:cNvSpPr/>
          <p:nvPr/>
        </p:nvSpPr>
        <p:spPr>
          <a:xfrm>
            <a:off x="3124080" y="304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数学函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3"/>
          <p:cNvSpPr/>
          <p:nvPr/>
        </p:nvSpPr>
        <p:spPr>
          <a:xfrm>
            <a:off x="395280" y="457200"/>
            <a:ext cx="8748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内部函数是有限的，有时为了研究某一个函数的各种性态，需要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义新函数，为此必须编写函数文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文件是文件名后缀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文件，这类文件的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第一行必须是一特殊字符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function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开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格式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function   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因变量名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函数名（自变量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值的获得必须通过具体的运算实现，并赋给因变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200400" y="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 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文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79280" y="3962520"/>
            <a:ext cx="835524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建立方法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，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File→New 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-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编辑窗口中输入程序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le 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av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存盘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名必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函数名一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533520" y="5867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应用程序也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件保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026"/>
          <p:cNvSpPr/>
          <p:nvPr/>
        </p:nvSpPr>
        <p:spPr>
          <a:xfrm>
            <a:off x="684360" y="762120"/>
            <a:ext cx="785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定义函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100(x2-x12)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(1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27"/>
          <p:cNvSpPr/>
          <p:nvPr/>
        </p:nvSpPr>
        <p:spPr>
          <a:xfrm>
            <a:off x="838080" y="2057400"/>
            <a:ext cx="78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</a:rPr>
              <a:t>function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=fun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=100*(x(2)-x(1)^2)^2+(1-x(1))^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28"/>
          <p:cNvSpPr/>
          <p:nvPr/>
        </p:nvSpPr>
        <p:spPr>
          <a:xfrm>
            <a:off x="914400" y="1447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建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文件：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u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29"/>
          <p:cNvSpPr/>
          <p:nvPr/>
        </p:nvSpPr>
        <p:spPr>
          <a:xfrm>
            <a:off x="4716360" y="5950080"/>
            <a:ext cx="268776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MATLAB(fu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030"/>
          <p:cNvSpPr/>
          <p:nvPr/>
        </p:nvSpPr>
        <p:spPr>
          <a:xfrm>
            <a:off x="914400" y="33526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以直接使用函数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u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31"/>
          <p:cNvSpPr/>
          <p:nvPr/>
        </p:nvSpPr>
        <p:spPr>
          <a:xfrm>
            <a:off x="684360" y="3962520"/>
            <a:ext cx="763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例如：计算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1,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需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LA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命令窗口键入命令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=[1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un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34"/>
          <p:cNvSpPr/>
          <p:nvPr/>
        </p:nvSpPr>
        <p:spPr>
          <a:xfrm>
            <a:off x="8077320" y="6095880"/>
            <a:ext cx="1066680" cy="5101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  <a:hlinkClick r:id="rId2" action="ppaction://hlinksldjump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31T07:13:25Z</dcterms:created>
  <dc:creator>www</dc:creator>
  <dc:description/>
  <dc:language>en-US</dc:language>
  <cp:lastModifiedBy>Chen</cp:lastModifiedBy>
  <dcterms:modified xsi:type="dcterms:W3CDTF">2013-08-11T02:44:56Z</dcterms:modified>
  <cp:revision>164</cp:revision>
  <dc:subject/>
  <dc:title>没有幻灯片标题</dc:title>
</cp:coreProperties>
</file>