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E9F8-279F-437C-8D05-C94E7535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A9C-3F46-4F13-8283-C960D999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D2CF-9120-4540-87C2-436FAC36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2EEF-0123-4FEE-8796-33B4A1DA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557D-9922-45E9-964D-A710D8EB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7D318-0A11-4722-9405-66F138CF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39E7-0734-44E7-979E-7E99DF8A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91A8-9F05-46E5-9B9F-9C3A7B3C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DE75-26A3-44A1-A44A-8D617B78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3979-B2E8-4A53-A7A0-DBF0BAF2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8267-B6E4-4CF2-A1C4-BBA0598E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A6E4-4D36-4A14-ADBE-F0306584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0B96-B2CB-4112-B333-98EA9E49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6FB7-2E96-4887-AA83-FE52999C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E5F76-1F15-48F9-A579-43FCBD39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D7E6-2E12-4C13-AC56-BD1D63BC8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C70BF-EB21-4E45-89C9-CD3A43F0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7279-56D5-4167-AC7F-9C151904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156F-2BD7-456E-AE43-0A5B53C5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42B3-B3EA-4E36-B944-B71D4D0F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E285-9947-48DD-8F37-B1749D91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F4B0-56FE-448E-AB0D-900EBBF3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7D8-3673-416F-8893-A9450134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C2A-96CA-4908-A836-E48665F5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5B09-FB69-49BC-9C84-12882C152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944A0-2055-4FC0-A5E5-FC95A3BC888F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第四章  微积分实验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611280" y="622440"/>
            <a:ext cx="78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此外，这里还有一个值得注意的现象，若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值一个微小的变动，例如增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00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那么数列后面的项将会出现很大的变动，这种现象在数学上被称为“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混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”。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8000" y="18194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试验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619280" y="184464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固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变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50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与上面的图进行对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-468360" y="2203560"/>
            <a:ext cx="5276880" cy="3457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3995640" y="2209680"/>
            <a:ext cx="5400720" cy="3451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684360" y="55450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K=3.8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2050920" y="555300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sy9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5796000" y="5553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K=3.8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7162920" y="556092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sy10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611280" y="4941720"/>
            <a:ext cx="1657080" cy="57492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539640" y="620640"/>
            <a:ext cx="75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经过详细的对比，我们发现两个实验得到的结果有明显的不同。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539640" y="112536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上，我们认为随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值的增加，数列中的项所取到的值变得更加分散 ，且有更多的项取得接近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极端值，从而出现混沌现象 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250920" y="24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84360" y="2492280"/>
            <a:ext cx="799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某储户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万元的人民币以活期的形式存入银行，年利率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如果银行允许储户在一年内可任意次结算，在不计利息税的情况下，若储户等间隔地结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次，每次结算后将本息全部存入银行，问一年后该储户的本息和是多少？随着结算次数的无限增加，一年后该储户是否会成为百万富翁？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684360" y="501336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题分析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82560" y="576900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若该储户每季度结算一次，则每季度利率为：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9"/>
              <p:cNvSpPr txBox="1"/>
              <p:nvPr/>
            </p:nvSpPr>
            <p:spPr>
              <a:xfrm>
                <a:off x="5867280" y="5661000"/>
                <a:ext cx="93672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1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95280" y="69228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故第一季度后储户本息共计：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3"/>
              <p:cNvSpPr txBox="1"/>
              <p:nvPr/>
            </p:nvSpPr>
            <p:spPr>
              <a:xfrm>
                <a:off x="3803760" y="620640"/>
                <a:ext cx="1847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00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 Box 5"/>
          <p:cNvSpPr/>
          <p:nvPr/>
        </p:nvSpPr>
        <p:spPr>
          <a:xfrm>
            <a:off x="395280" y="1303200"/>
            <a:ext cx="36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第二季度后储户本息共计：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4185360" y="36158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0" name="Rectangle 1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5"/>
              <p:cNvSpPr txBox="1"/>
              <p:nvPr/>
            </p:nvSpPr>
            <p:spPr>
              <a:xfrm>
                <a:off x="3851280" y="1268280"/>
                <a:ext cx="20160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00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2" name="Text Box 17"/>
          <p:cNvSpPr/>
          <p:nvPr/>
        </p:nvSpPr>
        <p:spPr>
          <a:xfrm>
            <a:off x="468360" y="1916280"/>
            <a:ext cx="37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…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一年后储户本息共计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Rectangle 2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19"/>
              <p:cNvSpPr txBox="1"/>
              <p:nvPr/>
            </p:nvSpPr>
            <p:spPr>
              <a:xfrm>
                <a:off x="3995640" y="1916280"/>
                <a:ext cx="2016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00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5" name="Text Box 21"/>
          <p:cNvSpPr/>
          <p:nvPr/>
        </p:nvSpPr>
        <p:spPr>
          <a:xfrm>
            <a:off x="395280" y="256536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若该储户每月结算一次，则每月利率为：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2"/>
              <p:cNvSpPr txBox="1"/>
              <p:nvPr/>
            </p:nvSpPr>
            <p:spPr>
              <a:xfrm>
                <a:off x="5148360" y="2565360"/>
                <a:ext cx="647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Rectangle 24"/>
          <p:cNvSpPr/>
          <p:nvPr/>
        </p:nvSpPr>
        <p:spPr>
          <a:xfrm>
            <a:off x="395280" y="331848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按上面的方法知一年后储户本息共计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25"/>
              <p:cNvSpPr txBox="1"/>
              <p:nvPr/>
            </p:nvSpPr>
            <p:spPr>
              <a:xfrm>
                <a:off x="4897440" y="3284640"/>
                <a:ext cx="21225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00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Text Box 27"/>
          <p:cNvSpPr/>
          <p:nvPr/>
        </p:nvSpPr>
        <p:spPr>
          <a:xfrm>
            <a:off x="395280" y="400536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若该储户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结算一次，则一年后本息共计 ：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8"/>
              <p:cNvSpPr txBox="1"/>
              <p:nvPr/>
            </p:nvSpPr>
            <p:spPr>
              <a:xfrm>
                <a:off x="5867280" y="3933720"/>
                <a:ext cx="2232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00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30"/>
          <p:cNvSpPr/>
          <p:nvPr/>
        </p:nvSpPr>
        <p:spPr>
          <a:xfrm>
            <a:off x="395280" y="4653000"/>
            <a:ext cx="66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若该储户的间隔地结算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，则一年后本息共计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：</a:t>
            </a:r>
            <a:endParaRPr b="1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Rectangle 3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31"/>
              <p:cNvSpPr txBox="1"/>
              <p:nvPr/>
            </p:nvSpPr>
            <p:spPr>
              <a:xfrm>
                <a:off x="5940360" y="4581360"/>
                <a:ext cx="2114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000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Text Box 33"/>
          <p:cNvSpPr/>
          <p:nvPr/>
        </p:nvSpPr>
        <p:spPr>
          <a:xfrm>
            <a:off x="395280" y="5264280"/>
            <a:ext cx="705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随着结算次数的无限增加，即在上式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故一年后本息共计：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34"/>
              <p:cNvSpPr txBox="1"/>
              <p:nvPr/>
            </p:nvSpPr>
            <p:spPr>
              <a:xfrm>
                <a:off x="1160640" y="5661000"/>
                <a:ext cx="27889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100000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00"/>
                            </p:stCondLst>
                            <p:childTnLst>
                              <p:par>
                                <p:cTn id="3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2627280" y="71136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yms n;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mit(10^5*(1+0.005/n)^n,n,inf)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39640" y="620640"/>
            <a:ext cx="1600200" cy="93672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611280" y="696960"/>
            <a:ext cx="165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程序：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4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335640" cy="4942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2556000" y="6778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导数与极值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95280" y="1341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、函数的导数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042920" y="1916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命令 ：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332000" y="242100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916360" y="2421000"/>
            <a:ext cx="46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示对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求关于变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一阶差分；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1332000" y="2852640"/>
            <a:ext cx="20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916360" y="285264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示对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求关于变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阶差分。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9" name="Text Box 9"/>
          <p:cNvSpPr/>
          <p:nvPr/>
        </p:nvSpPr>
        <p:spPr>
          <a:xfrm>
            <a:off x="250920" y="34034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1547640" y="342900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飞机安全降落曲线的确定：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684360" y="4044960"/>
            <a:ext cx="73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飞机为了安全降落，必须在开始降落时和着陆时保持水平飞行姿态，设飞机开始降落时，距离落点的水平距离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(km)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飞机高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00(m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机场的地面高度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，开始降落时和着陆时保持水平飞行姿态。利用微积分学的求导公式，依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计算和做图功能，确定一条适合的曲线。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468360" y="65556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试验分析：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468360" y="1197000"/>
            <a:ext cx="72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题目的要求，我们有四个条件，所以不妨用三次多项式曲线来模拟飞机的飞行路线，即假设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4500720" y="1484280"/>
                <a:ext cx="3527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+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Text Box 6"/>
          <p:cNvSpPr/>
          <p:nvPr/>
        </p:nvSpPr>
        <p:spPr>
          <a:xfrm>
            <a:off x="468360" y="198900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由已知，我们有：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755640" y="2492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(0)=10000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2844720" y="2492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`(0)=0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6227640" y="249228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 `(L)=0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4641840" y="2492280"/>
            <a:ext cx="19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(L)=0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539640" y="292428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由上四个初始条件来求三次多项式的待定系数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并作出飞行路线图：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2770200" y="3357720"/>
            <a:ext cx="6049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=[0 0 0 1;0 0 1 0;80^3,80^2,80 1;3*80^2,2*80,1,0];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=[10000 0 0 0]';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A\b;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=X(1)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=X(2)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=X(3)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=X(4)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=0:80;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=a*x.^3+b*x.^2+c*x+d;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ot(x,f,'b')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('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飞机的飞行路线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Rectangle 18"/>
          <p:cNvSpPr/>
          <p:nvPr/>
        </p:nvSpPr>
        <p:spPr>
          <a:xfrm>
            <a:off x="755640" y="3571920"/>
            <a:ext cx="1600200" cy="93672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4" name="Text Box 19"/>
          <p:cNvSpPr/>
          <p:nvPr/>
        </p:nvSpPr>
        <p:spPr>
          <a:xfrm>
            <a:off x="826920" y="364824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程序：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5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3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192720" cy="46450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4"/>
          <p:cNvSpPr/>
          <p:nvPr/>
        </p:nvSpPr>
        <p:spPr>
          <a:xfrm>
            <a:off x="539640" y="692280"/>
            <a:ext cx="352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飞行路线如图所示：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95280" y="7650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二、函数的极值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24000" y="134136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求一元函数的极小值点：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684360" y="1773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minbnd(f,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用来求一元函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区间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极小值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24000" y="220500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求多元函数的极小值点：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611280" y="2708280"/>
            <a:ext cx="90741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minsearch(function,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               fminunc(function,x0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都是用来求多元函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附近的极小值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108000" y="36194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1403280" y="364500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工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到铁路的垂直距离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千米，垂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到火车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千米，汽车运费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吨千米，铁路运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吨千米，为使运费最省，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点建一运转站，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铁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间，问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应建在何处？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50920" y="4724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问题分析：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1403280" y="472428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此问题实际上是求一个计算极小值的问题，有题已知条件，可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距离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则总费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只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关，即可写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(x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及其定义域，再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(x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求导，求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(x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驻点及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(x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驻点的函数值即可。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2484360" y="620640"/>
            <a:ext cx="6120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s t;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=diff(20*sqrt(9+t.^2)+15*(5-t),t)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=0:0.1:5;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1=20*sqrt(9+t.^2)+15*(5-t);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2=20./(9+t.^2).^(1/2).*t-15;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(t,y1)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('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总费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id on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ot(t,y2,'=')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tle('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总费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关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一阶导数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')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id on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611280" y="443700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根据上图可判断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(x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最小值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3,4]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，于是运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minbn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函数，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3,4]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求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(x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最小值：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2627280" y="5149800"/>
            <a:ext cx="54738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=inline('20*sqrt(9+t.^2)+15*(5-t)');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fminbnd(f,3,4)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468360" y="5157720"/>
            <a:ext cx="1600200" cy="93672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39640" y="523404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程序：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6_2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468360" y="1341360"/>
            <a:ext cx="1600200" cy="93672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539640" y="141768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程序：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6_1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2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684360" y="5445000"/>
            <a:ext cx="748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最后，我们得到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值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401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位于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3.4017km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处时运费最省。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24" name="Picture 3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4297320" cy="460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450036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250920" y="9558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547640" y="9349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物学中，有一个刻画生物群体的个体总量增长情况的著名方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sti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方程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k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-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其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某一生物群体的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的个体总量与该群体所能达到的最大个体总量之比                                         ，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比例系数。 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076720" y="2017800"/>
          <a:ext cx="345600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2017800"/>
                    <a:ext cx="3456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6"/>
          <p:cNvSpPr/>
          <p:nvPr/>
        </p:nvSpPr>
        <p:spPr>
          <a:xfrm>
            <a:off x="1476360" y="3378240"/>
            <a:ext cx="73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给定初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比例系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值后，该方程就能生成一个数列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物学家为了预测群体总量的变化情况，就要研究这个数列，他们感兴趣的是：这个数列存在极限吗？数列中的项会出现周期性的变化情况吗？数列会不会出现无法预测的紊乱情况？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24000" y="335772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析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3"/>
          <p:cNvSpPr/>
          <p:nvPr/>
        </p:nvSpPr>
        <p:spPr>
          <a:xfrm>
            <a:off x="684360" y="2133720"/>
            <a:ext cx="934920" cy="5032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7" name="Rectangle 14"/>
          <p:cNvSpPr/>
          <p:nvPr/>
        </p:nvSpPr>
        <p:spPr>
          <a:xfrm>
            <a:off x="684360" y="2854440"/>
            <a:ext cx="1079280" cy="5032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8" name="Rectangle 15"/>
          <p:cNvSpPr/>
          <p:nvPr/>
        </p:nvSpPr>
        <p:spPr>
          <a:xfrm>
            <a:off x="684360" y="3573360"/>
            <a:ext cx="1295280" cy="5032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9" name="Rectangle 16"/>
          <p:cNvSpPr/>
          <p:nvPr/>
        </p:nvSpPr>
        <p:spPr>
          <a:xfrm>
            <a:off x="684360" y="4365720"/>
            <a:ext cx="1439640" cy="5032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0" name="Rectangle 17"/>
          <p:cNvSpPr/>
          <p:nvPr/>
        </p:nvSpPr>
        <p:spPr>
          <a:xfrm>
            <a:off x="684360" y="5095800"/>
            <a:ext cx="2519280" cy="5032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684360" y="1341360"/>
            <a:ext cx="934920" cy="50328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2556000" y="67788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函数的积分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755640" y="220500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(f)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用来求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定义的符号变量的不定积分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755640" y="1406520"/>
            <a:ext cx="74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(a)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用来求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表示的一元多项式的不定积分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720720" y="516744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d8(‘fun’,a,b,to1)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用来求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数值积分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为精度，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缺省值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e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755640" y="291924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(f,x)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用来求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关于变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不定积分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755640" y="3646440"/>
            <a:ext cx="838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(f,a,b)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用来求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定义的符号变量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不定积分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755640" y="44308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(f,x,a,b)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用来求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关于变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从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不定积分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2"/>
          <p:cNvSpPr/>
          <p:nvPr/>
        </p:nvSpPr>
        <p:spPr>
          <a:xfrm>
            <a:off x="250920" y="765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692360" y="7398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下列积分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4"/>
              <p:cNvSpPr txBox="1"/>
              <p:nvPr/>
            </p:nvSpPr>
            <p:spPr>
              <a:xfrm>
                <a:off x="2689200" y="1341360"/>
                <a:ext cx="173844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5"/>
              <p:cNvSpPr txBox="1"/>
              <p:nvPr/>
            </p:nvSpPr>
            <p:spPr>
              <a:xfrm>
                <a:off x="2484360" y="2133720"/>
                <a:ext cx="266544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Object 6"/>
              <p:cNvSpPr txBox="1"/>
              <p:nvPr/>
            </p:nvSpPr>
            <p:spPr>
              <a:xfrm>
                <a:off x="2987640" y="3213000"/>
                <a:ext cx="252108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4" name="Rectangle 7"/>
          <p:cNvSpPr/>
          <p:nvPr/>
        </p:nvSpPr>
        <p:spPr>
          <a:xfrm>
            <a:off x="611280" y="150084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求不定积分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611280" y="245484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求定积分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611280" y="3427920"/>
            <a:ext cx="29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求二重定积分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6516720" y="14479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ex7_1.m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6516720" y="245592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ex7_2.m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6516720" y="342900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ex7_3.m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250920" y="44845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1763640" y="4508640"/>
            <a:ext cx="676908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计算区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0,4]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曲线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曲线                                     所围成的图形的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面积。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16"/>
              <p:cNvSpPr txBox="1"/>
              <p:nvPr/>
            </p:nvSpPr>
            <p:spPr>
              <a:xfrm>
                <a:off x="4716360" y="4349880"/>
                <a:ext cx="316872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π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17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18"/>
              <p:cNvSpPr txBox="1"/>
              <p:nvPr/>
            </p:nvSpPr>
            <p:spPr>
              <a:xfrm>
                <a:off x="2843280" y="5013360"/>
                <a:ext cx="2952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1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000"/>
                            </p:stCondLst>
                            <p:childTnLst>
                              <p:par>
                                <p:cTn id="7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395280" y="549360"/>
            <a:ext cx="61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先作出函数图形，观察两个函数的大致位置：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611280" y="54450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以看出，两个函数有两个交点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我们只需求出两交点的横坐标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2,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然后对积分区域进行分段求解即可。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6697800" cy="42274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8"/>
          <p:cNvSpPr/>
          <p:nvPr/>
        </p:nvSpPr>
        <p:spPr>
          <a:xfrm>
            <a:off x="7307280" y="1700280"/>
            <a:ext cx="1600200" cy="93672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7378560" y="177624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程序：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8_1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611280" y="620640"/>
            <a:ext cx="6624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clear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f=inline('exp(-(x-2).^2.*cos(pi*x))-4*cos(x-2);');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x1=fsolve(f,1)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x2=fsolve(f,3)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quadl('f',x1,x2)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2" name="Text Box 5"/>
          <p:cNvSpPr/>
          <p:nvPr/>
        </p:nvSpPr>
        <p:spPr>
          <a:xfrm>
            <a:off x="468360" y="515772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结果：      </a:t>
            </a: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4.1741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0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324000" y="6206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763640" y="5954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梯形法计算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Object 4"/>
              <p:cNvSpPr txBox="1"/>
              <p:nvPr/>
            </p:nvSpPr>
            <p:spPr>
              <a:xfrm>
                <a:off x="3851280" y="466560"/>
                <a:ext cx="1190520" cy="73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6" name="Text Box 6"/>
          <p:cNvSpPr/>
          <p:nvPr/>
        </p:nvSpPr>
        <p:spPr>
          <a:xfrm>
            <a:off x="755640" y="1413000"/>
            <a:ext cx="576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x=0:0.01:1;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[s1,s2]=size(x);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s=0;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for i=1:s2-1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s=s+(exp((-x(i)^2))+exp((-x(i+1)^2)))*0.01/2;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end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6515280" y="1700280"/>
            <a:ext cx="1600200" cy="93672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8" name="Text Box 8"/>
          <p:cNvSpPr/>
          <p:nvPr/>
        </p:nvSpPr>
        <p:spPr>
          <a:xfrm>
            <a:off x="6586560" y="177624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la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程序：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9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8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500"/>
                            </p:stCondLst>
                            <p:childTnLst>
                              <p:par>
                                <p:cTn id="8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12"/>
          <p:cNvSpPr/>
          <p:nvPr/>
        </p:nvSpPr>
        <p:spPr>
          <a:xfrm>
            <a:off x="611280" y="1844640"/>
            <a:ext cx="172872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611280" y="2637000"/>
            <a:ext cx="1728720" cy="576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611280" y="3357720"/>
            <a:ext cx="1728720" cy="576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611280" y="1125360"/>
            <a:ext cx="172872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2700360" y="54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四节  级数</a:t>
            </a:r>
            <a:endParaRPr b="1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755640" y="1916280"/>
            <a:ext cx="68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taylor(f,n)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用来求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lauri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展开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684360" y="1197000"/>
            <a:ext cx="68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taylor(f)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用来求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lauri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展开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755640" y="26719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taylor(f,a)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用来求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处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ylo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展开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755640" y="34304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taylor(f,n,a)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用来求函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处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阶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ylor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展开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50920" y="41958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例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79" name="Text Box 8"/>
          <p:cNvSpPr/>
          <p:nvPr/>
        </p:nvSpPr>
        <p:spPr>
          <a:xfrm>
            <a:off x="1763640" y="41911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求函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=cosx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=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处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yl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展开式及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=pi/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处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ylo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展开式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1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1403280" y="4941720"/>
            <a:ext cx="720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syms  x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y1=taylor(cos(x))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y2=taylor(cos(x),7,pi/3)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0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fill="hold">
                            <p:stCondLst>
                              <p:cond delay="1000"/>
                            </p:stCondLst>
                            <p:childTnLst>
                              <p:par>
                                <p:cTn id="9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3"/>
          <p:cNvSpPr/>
          <p:nvPr/>
        </p:nvSpPr>
        <p:spPr>
          <a:xfrm>
            <a:off x="179280" y="692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作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763640" y="728640"/>
            <a:ext cx="669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周期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pi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周期函数，它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-pi,pi]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的表达式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763640" y="2133720"/>
            <a:ext cx="62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用动画演示矩形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是由一系列不同频率的正弦波叠加而成的。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395280" y="296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763640" y="296064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计算傅立叶级数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…….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10"/>
              <p:cNvSpPr txBox="1"/>
              <p:nvPr/>
            </p:nvSpPr>
            <p:spPr>
              <a:xfrm>
                <a:off x="1835280" y="3357720"/>
                <a:ext cx="583884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nπ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4"/>
              <p:cNvSpPr txBox="1"/>
              <p:nvPr/>
            </p:nvSpPr>
            <p:spPr>
              <a:xfrm>
                <a:off x="2714760" y="1125360"/>
                <a:ext cx="380196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π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t xml:space="preserve">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π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8" name="Text Box 17"/>
          <p:cNvSpPr/>
          <p:nvPr/>
        </p:nvSpPr>
        <p:spPr>
          <a:xfrm>
            <a:off x="755640" y="4365720"/>
            <a:ext cx="1079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9" name="Text Box 18"/>
          <p:cNvSpPr/>
          <p:nvPr/>
        </p:nvSpPr>
        <p:spPr>
          <a:xfrm>
            <a:off x="395280" y="458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0" name="Text Box 19"/>
          <p:cNvSpPr/>
          <p:nvPr/>
        </p:nvSpPr>
        <p:spPr>
          <a:xfrm>
            <a:off x="1763640" y="4581360"/>
            <a:ext cx="69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作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图形，再展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傅氏级数，最后做出动画。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1000"/>
                            </p:stCondLst>
                            <p:childTnLst>
                              <p:par>
                                <p:cTn id="9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2000"/>
                            </p:stCondLst>
                            <p:childTnLst>
                              <p:par>
                                <p:cTn id="9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611280" y="2060640"/>
            <a:ext cx="7345440" cy="50472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1403280" y="83664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面我们来考察数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不同变化情况，从而对数列的不同变化趋势获得较为生动的感性认识，加深对数列极限的理解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-36360" y="8366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试验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84360" y="213372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0=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之间的两个不同值，观察数列的变化趋势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539640" y="2492280"/>
            <a:ext cx="7488360" cy="39528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7667640" y="3645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K=1.5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7667640" y="4437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sy1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576360" y="268200"/>
            <a:ext cx="7524720" cy="43848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7667640" y="180828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K=2.5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826920" y="47671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过图像我们可以看出数列是收敛的，这表明：种群的个体总量将趋于一个稳定值。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667640" y="25653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sy2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1619280" y="836640"/>
            <a:ext cx="6192720" cy="4316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-36360" y="81108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试验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547640" y="87156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之间的值，观察数列的变化趋势。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697800" cy="4016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7524720" y="21258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K=3.25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7524720" y="29178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sy3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403280" y="5229360"/>
            <a:ext cx="6553440" cy="100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6337080" cy="410364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7524720" y="2709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K=3.25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524720" y="35020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sy4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684360" y="69228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了更清楚的显示数列的变化情况，我们将上面的点用折线连接起来，如下图所示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474920" y="537372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见这时数列不收敛，而出现周期性的波动，数列的项交替取两个不同的值。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619280" y="836640"/>
            <a:ext cx="6769080" cy="4316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-36360" y="81108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试验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547640" y="8366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再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之间的值，观察数列的变化趋势。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879480" y="1204920"/>
            <a:ext cx="6716880" cy="3952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7524720" y="2709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K=3.45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7524720" y="35020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sy5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684360" y="62064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同样，为了更清楚的显示数列的变化情况，我们将上面的点用折线连接起来，如下图所示：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6769440" cy="43005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7524720" y="2709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K=3.45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7524720" y="350208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sy6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1403280" y="5445000"/>
            <a:ext cx="5545080" cy="64800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474920" y="555300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见这时数列也不收敛，也出现周期性的波动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2"/>
          <p:cNvSpPr/>
          <p:nvPr/>
        </p:nvSpPr>
        <p:spPr>
          <a:xfrm>
            <a:off x="539640" y="5516640"/>
            <a:ext cx="4824360" cy="57636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1619280" y="836640"/>
            <a:ext cx="6769080" cy="431640"/>
          </a:xfrm>
          <a:prstGeom prst="rect">
            <a:avLst/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-36360" y="81108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【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试验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】</a:t>
            </a:r>
            <a:endParaRPr b="1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547640" y="8366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0.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再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之间的值，观察数列的变化趋势。</a:t>
            </a:r>
            <a:r>
              <a:rPr b="1" lang="zh-CN" sz="2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-181080" y="1322280"/>
            <a:ext cx="5029200" cy="3762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"/>
          <p:cNvPicPr/>
          <p:nvPr/>
        </p:nvPicPr>
        <p:blipFill>
          <a:blip r:embed="rId2"/>
          <a:stretch/>
        </p:blipFill>
        <p:spPr>
          <a:xfrm>
            <a:off x="4067280" y="1341360"/>
            <a:ext cx="5276880" cy="38163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7"/>
          <p:cNvSpPr/>
          <p:nvPr/>
        </p:nvSpPr>
        <p:spPr>
          <a:xfrm>
            <a:off x="684360" y="49338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K=3.8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050920" y="4941720"/>
            <a:ext cx="122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sy7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796000" y="49417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a77"/>
                </a:solidFill>
                <a:latin typeface="Arial"/>
              </a:rPr>
              <a:t>K=3.8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7162920" y="495000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a77"/>
                </a:solidFill>
                <a:latin typeface="Arial"/>
              </a:rPr>
              <a:t>sy8.m</a:t>
            </a:r>
            <a:endParaRPr b="1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611280" y="558972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见这时数列的变化趋势变得很紊乱。 </a:t>
            </a:r>
            <a:endParaRPr b="1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03:06:05Z</dcterms:created>
  <dc:creator>daniel</dc:creator>
  <dc:description/>
  <dc:language>en-US</dc:language>
  <cp:lastModifiedBy>Chen</cp:lastModifiedBy>
  <dcterms:modified xsi:type="dcterms:W3CDTF">2014-08-24T13:59:27Z</dcterms:modified>
  <cp:revision>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